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1EDE-2082-4CE6-95B5-7A11A20347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C2DF-31D4-4458-911E-D795A3B6D4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4DA8-153C-40B0-BD70-3C945E637D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the term knowledge management and describes the process from acquiring knowledge to applying it as a value chain, and is followed by slides detailing each stage. Each stage of the chain adds more value to the raw data and information.  Ask the students to differentiate between the stages, and how each stage could incorporate more value? For example, how does knowledge once it is stored incorporate more value than the previous stage, knowledge that is being acquir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8211-F4AA-4F03-B661-FE2891BDAA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stage of the knowledge value chain, knowledge acquisition and details different ways knowledge can be gathered. Use the example of a specific type of business or organization, such as a paper manufacturer or university, and have the students describe how that business might acquire or create knowledge. For example, what types of knowledge would a paper manufacturer be interested and how would they gather or creat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71DE-9307-4A51-BE9F-EC694DC642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econd stage of the knowledge value chain, knowledge storage, describing the ways in which knowledge is stored as well as the importance of management in creating and maintaining repositories of knowledge.  Give the students an example company, such as a medical practice, and ask what type of knowledge they would need and how it should be stored (e.g. medical records of patient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CCDA-08D8-4E18-95A4-59192D56F0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hird stage of the knowledge value chain and describes various ways that knowledge can be disseminated within the organization. Ask the students for examples of how they received knowledge from a job they have had or a university or college they have attended. What type of knowledge was transferred and what means were used? Were these methods of dissemination adequate or do they see more effective ways to disseminate the same information?  How can a company or its employees have “too much inform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A189-CA8E-4967-A025-902660F779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last stage of the knowledge value chain, knowledge application, and emphasizes the need to see and evaluate knowledge in terms of organizational capital and return on investment. Ask the students if they have any examples from their own experience in education or work of how new knowledge can result in a new business practice, new product, or new marke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3642-5AA4-4551-A1F3-782FDEAA6A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tails the stages of the knowledge management value chain, separating the information system activities from the management/organizational activities involved at each stage. It also describes two very other important requirements for the value chain, the initial data and information acquisition that forms the basis for creating knowledge, and feedback from the knowledge application stage that can result in new opportunities for data and knowledge cre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83A5-7E3B-4F94-8170-49E0BE5EFD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new types of organizational roles that managers can develop in order to facilitate the knowledge value chain. Why might a chief knowledge officer, a senior executive position, be valuable to a company? Ask students why a CKO and COP may or may not be important to the various stages of the value chain – data acquisition, knowledge creation, storage, dissemination, and application, as well as feedback.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A18A-0A9F-4471-90C8-8E99ECE0B5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hree main categories of information system used to manage knowledge. These categories are different in terms of the constituencies they server, the purpose for which they are used and what they emphasiz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982B-E346-46C3-B377-379B8BFAB5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jor types of knowledge management systems, giving the purpose of the system and examples of the type of system. Ask the students how they would categorize a system that catalogs and stores past advertising campaigns? What about software that helps a research biologist input and analyze lab finding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2255-73A5-4166-A1DD-57C251135B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hree major kinds of knowledge that can be found in an enterprise, and indicates that less formal knowledge may be just as critical as formal knowledge for organizations to store and share. Ask the students for other examples of semistructured and unstructured knowledge. Ask students for an example of tacit knowledge that is more important than structured knowledge such as a repor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1F99-CA05-4CAB-8015-3DBB84CE63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chapter is to discuss the business value of knowledge and describe how knowledge is created and managed in the firm. For most students, the idea of business being dependent on knowledge will be a new idea.  At this point, show them your cell phone and ask them what kind of knowledge would be needed by an organization to make devices like this?  You might ask students to come up with definitions of knowledge and to distinguish knowledge from data, information, and wisdom. Give examples of types of organizations (hospital, law firm, car dealership, diner, school, etc.) and ask students to come up with specific examples of knowledge that would be important to that organiz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0C6E-D826-4F5A-ABAE-07FDBEF579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purpose and features of enterprise-wide content management systems. The text discusses the example of Central Vermont Public Service, which uses OpenText LiveLink Enterprise Content Management to organize both structured and unstructured content such as e-mails, spreadsheets, word processing documents, and PDFs.  In addition to helping make better business use of the information, the system also helps the organization comply with federal and state regulations for records manage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4876-FBF9-434B-AA6F-123E010B52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unctions of an enterprise content management system. Users interact with the system to both input knowledge, manage it, and distribute it. These management systems can house a wide variety of information types, from formal reports to graphics, as well as bring in external content resources such as news feeds. Ask students what types of documents would need to be stored by a hospital, bank, law firm, etc.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6832-A3A5-4350-BF20-8E9B53B5BF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nterprise-wide content management systems. One need when collecting and storing knowledge and documents is describing a knowledge object so that it can be found later by users. Companies must decide and implement classification schemes, or taxonomies, to define categories meaningful to users, and then knowledge objects must be assigned a classification (“tagged”) so that it can be retrieved. Ask students why different companies might need different taxonomies? Why is it a critical task and a difficult task in preparing for a successful content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ntent management systems specialize in managing digital media storage and classification. What types of firms may need these digital asset management systems? (Publishers, advertisers, broadcasters, entertainment producers, etc.)</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CFF1-1BCE-4ED8-836B-C5976D5FC3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content management systems can include or consist of capabilities for the creation and management of unstructured knowledge – knowledge network systems. Ask the students to give examples of unstructured knowledge, given a type of industry or company: a law firm, an advertising firm, a school. What might be the difficulties in establishing a knowledge network system in a company?  Contrast this network (crowd centered) approach to a top down structured knowledge management system.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4564-B610-4478-A361-7AB1002B83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various elements that form a knowledge network system. The user can search for accepted solutions in FAQ or best practices document or contact an expert in the relevant subject matter.  Ask the students to provide examples of undocumented, unstructured knowledge they acquired, either in a classroom setting or at work, that would be valuable to peers. What kind of tools would enable sharing this inform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88D9-6FB5-4D48-BDD2-5F1144F99A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wide content systems include capabilities for collaboration and learning management.  Ask students to provide examples of other types of collaboration tools (chat/IM, video conferencing). Ask students how a blog  and wiki would help a company in terms of collaboration. Have any of the students used or created a wiki? Ask students if they have used social bookmarking personally and to describe how it works. Ask them how social bookmarking would be valuable as a collaboration tool for a business. Are there any potential problems in using social bookmarking (tagging).</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B56C-A340-43D4-8AC0-C13795EBAC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learning management systems, which enable companies to track and manage employee learning. Ask students what are the benefits and drawbacks of using an LMS with centralized report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C190-40C4-4EF6-8307-B5E341156E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2.0 is a very broad phenomenon, worthy of a course all its own.  Briefly introduce Web 2.0 as the interactive, user-generated, and social Web.  Provides examples like Facebook, Wikipedia, Flickr, blogs, and Digg.  This Interactive Session describes the use of Web 2.0 tools like blogs, wikis, and social networking at companies such as Sun Microsystems, IBM, the FAA, and Wachovia.  Ask students to  analyze and evaluate these tools as they are used in a corporate context.  You can also ask students to describe how these companies discussed in the case used Web 2.0 tool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E07D-691F-4D64-BEB7-7AF4DDC10C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econd main type of knowledge management system, the knowledge work system, and identifies the importance of knowledge workers to an organization and its knowledge creation. Ask the students why each of the  three roles listed is important to an organization.  Can all companies benefit from knowledge workers, or only design, science, and engineering firm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EB8D-ABA2-4D00-B8EF-56D57AB17E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lide continues the discussion of knowledge work systems, emphasizing the need of knowledge workers to have highly specialized knowledge work systems. Ask students to describe the reasons that these characteristics are important for a knowledge work system. What other types of information systems would a knowledge worker rely on, if any? (office systems, productivity systems, scheduling system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53B9-BE35-4A2C-99CC-69718B85E4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study discusses the deployment of a content management system at P&amp;G to facilitate knowledge sharing and eliminate paperwork and its effects on work flow. You might ask students to identify why knowledge is important to Proctor &amp; Gamble. Ask students to describe the business value of a content management system to a company like Procter &amp; Gamble. What effects did implementing the knowledge system have on employees? Can they imagine any detrimental effects on employe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E670-50EE-436D-BA87-DAA69DF3F9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in components of a knowledge work station: having the need for both specialized software and hardware, access to external information, and an easy-to-use interface. What types of external knowledge might be valuable to an engineer, a financial analyst, a medical research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4761-0E24-4402-A3AA-0BFE36E8D1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ree types of knowledge work systems: CAD systems, virtual reality systems, and investment work stations. Ask students what the business value of providing a financial analyst, engineer, or researcher with an improved, specialized work station would be. Can the value of implementing or upgrading work systems be quantified into a monetary value? The text discusses virtual reality systems as an aid in medicine and engineering. What other industries might benefit from the use of virtual reality systems by their knowledge worke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92A8-DFF1-48E4-B43C-C480D5C015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hird of the three main types of knowledge management systems: Intelligent techniques, and categorizes them according to the type of knowledge involved.  AI technology is used in some techniques as part of the logical computerized routine. The text discusses AI systems being able to learn languages, and emulate human expertise and decision making. What might be some of the benefits and drawbacks to AI technology? Are there any ethical considera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3880-D9A2-44B7-A242-F04E264A71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expert systems, one type of intelligent technique. Ask students why expert systems are best used in highly structured decision-making situations. Ask students to provide an example of a decision that could not be solved by an expert system.  Choice of music, potential spouses or mates, new product decisions, or designing a new marketing campaign might be good examples of poorly structured decision situ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BAC1-6BF5-42F2-A1A1-C2A14FB043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 of If/Then rules in an expert system. Ask students to demonstrate an understanding of if/then rules, by analyzing a common decision as a series of if/then statements; for example, the decision to accept an invitation to socialize on a weeknight, or the decision of what to make for dinne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0930-3253-4C44-8CC6-6FD07410C6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xpert systems and describes how they work. Their key elements are their knowledge base and their inference engine. Ask students to demonstrate an understanding of the difference between forward chaining and backward chaining. For example, given a hypothesized expert system to determine what to make for dinner, what would an inference engine with forward chaining begin with? (Example, is there chicken? Is there beef?  Is there broccoli, etc.? What are all the ingredients available and what could be made from them?) What would an inference with backward chaining begin with? (We are making chicken with broccoli. Do we have the ingredient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6B4F-5C68-4153-9CEB-3AD1482738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ypes of rules that might be used by salespeople to determine whether or not to add a client to a prospect database. Ask students to demonstrate, using this chart, what would happen to a client that was determined to have an income of $80,000 and was given Financial Advic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15BA-3AEF-4B82-BD5B-2961DFC5AB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xpert systems, citing two examples of successful systems, and discussing the types of problems that benefit from expert systems as well as the potential drawbacks to implementing expert systems. Could an expert system be used to diagnose a medical condition? What might be the drawbacks to using an expert system for medical diagnosis?  What happened to Country Wide Funding in the financial meltdown of 2008?  It is possible that a functioning expert system can be programmed to make some bad decisions very rapidly.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DF74-E4F8-44A7-A55F-74DE19F76B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second type of intelligent technique, case-based reasoning. What would be the difference in how a CBR system would be used in medical diagnosis versus an expert system? Ask students which of the two techniques would be better at medical diagnosis and wh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E9EB-FAF3-481F-B27F-029727A23C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monstrates the six main steps in case based reasoning. Ask the students to compare expert systems with CBR. What are the benefits and drawbacks in CBR as a technique? What types of problems  lend themselves to CB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5BA2-4DB3-414D-841A-40336987FF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role of knowledge today in the U.S. economy. Ask students to give examples of knowledge and information sectors (finance, publishing, etc.).  It may come as a surprise to students that more than half the value of all stocks listed on the New York Stock Exchange is attributed to intangible assets like knowledge and know-how.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D6ED-EAFB-4998-92D9-7308B3E389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hird type of intelligent technique – fuzzy logic.  The text discusses the use of fuzzy logic to control room temperature automatically using imprecise values for temperature, humidity, outdoor wind, and outdoor temperature, in order to evaluate current room conditions and respond appropriately. Ask students what might be the imprecise values used in the fuzzy logic for camera autofocus, medical fraud detection, and subway acceleration. Could fuzzy logic be used in medical diagnosis? How would this work?</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5B11-AACE-4FC4-966B-FF39209727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fuzzy logic system for room air conditioning might represent the imprecise values for temperature. Ask students what the benefit is of using imprecise valu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A6A5-CD0F-47D2-9235-A7F27986DC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fourth intelligent technique, neural networks. Ask students whether neural networks could be used in medical diagnosis? How would this work?  To some extent, data mining techniques have replaced neural networks in situations requiring pattern recognition.  For instance credit card companies sift through mountains of transaction data to identify which charging patterns are unlikely for each and every charge card customer.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342D-BFC8-4979-A7A5-019D38C402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neural network works – by using an internal, hidden layer of logic that examines existing data and assigning a classification to that set of data. For example, given one or more specific combinations of age, income, purchase history, frequency of purchases, and average purchase size, a neural network might determine that a new credit card purchase was likely to be fraudulent. What are the benefits and drawbacks of using this type of techniqu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25E5-C405-467E-9EA9-70D5D89D0F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development of two location-based mobility networking products by Sense Networks, Inc. The products use and analyze GPS information from consumers’ cell phones – one product aims to let businesses know where their customers go before and after visiting their business, another suggests recommendations of places to go to users based on their similarity of their habits to other users. Ask students if there are any other ethical concerns, other than privacy risks, to these produc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EDCD-9F47-46C1-BE14-9CBAF1CE09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fifth type of intelligent technique – genetic algorithms.  Ask students whether genetic algorithms might be useful in medical diagnosis. Why or why not? Ask students to differentiate between the various intelligent techniques discussed this far – expert systems, CBR, fuzzy logic, neural networks, and genetic algorithm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4F49-7406-4D5C-8269-39D4BE4E7E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genetic algorithm – “chromosomes”, each with a variety of characteristics that can be compared for overall fitness in a given situation.  Ask students what types of problems genetic algorithms are suited for.</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789B-448A-4AAB-929A-F53068E034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ybrid AI systems, which combine two or more of the techniques previously discussed. Would a hybrid AI system be better suited for medical diagnosis than a purely CBR or expert syst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9B4C-D632-428A-B20C-1007A5023B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lide discusses the use of intelligent agents to carry out repetitive tasks for a user or system. Shopping bots discussed in an earlier chapter are an example of an intelligent agent. As an example of agent-based modeling, Procter &amp; Gamble used agent-based modeling to improve coordination among supply-chain member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F089-C4FF-48D5-922D-45051674EF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Procter &amp; Gamble’s use of intelligent agents in its supply chain network. Given that intelligent-agent modeling mimics the behavior of a number of “actors” in a given situation, what other types of situations might benefit from this type of analys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5B56-C0E5-4289-BA51-BFB470BF23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growth of sales of knowledge management software in the U.S. along with sales predictions through 2012 – making this type of software among the fastest-growing types of software applications. This is a good indicator of the increasing importance companies are placing on knowledge and its contribution to their bottom li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DA16-0E82-427D-8FA7-3B7C1871F3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begin to answer the question “What is knowledge” as it pertains to the organization. Ask the students why it is important to define and describe knowledge. Ask students to provide examples of knowledge, given an example industry, that illustrate that it is a “firm asset”. (E.g. For an electrical appliances firm, knowing how to make the most efficient and cheapest air conditioner).  Ask students to explain each element of the dimensions, providing examples. For example, what is meant by “knowledge is intangible?,” “Give me an example of explicit knowledge.”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6423-C451-4B90-A4D4-69865B32B6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from the previous slide, in answering the question “What is knowledge” as it pertains to the organization. Ask students to further explain or give examples for each characteristic. For example, “What is an example of knowledge with a social basis?” “What is an example of knowledge that is sticky; what is sticky about i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6C4C-560D-4A25-970E-61AF0F518E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value of knowledge to the organization, making distinctions between data, information, knowledge, and wisdom. Ask the students to distinguish between data, information, knowledge, and wisdom. Give examples of well-known companies and ask students to describe knowledge the company has that gives it competitive advantage, such as Apple, eBay, the Gap, Burger King, etc.  It might also be a good time to point out what is the value of a “skilled labor force.”  That value results from the knowledge employees have to do their jobs efficiently and effectively.  This knowledge in the heads of employees is hard to repla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EDB8-2BE5-4F17-863F-3FE86DCEFF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organizational learning, which describes the process of gathering, creating, and applying knowledge. Most students will be surprised that organizations learn, and others will provide many examples of organizations which refused to learn any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ganizational learning, knowledge becomes the driver of new behavior – decision making, new products and services, new business processes. This might be seen also as organizations sensing and responding to their environment. Give the students examples of organizations, such as a school, hospital, bank, clothing manufacturer, and ask them to provide examples of how that business might demonstrate organizational learning.  How well do students think the Big Three automakers in the U.S. learned in the past twenty yea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fld id="{6ED75A01-50D4-47F2-BDED-AC13C2326D41}"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447920" y="2550960"/>
            <a:ext cx="6248160" cy="2562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Managing Knowledge and Collaboration</a:t>
            </a:r>
            <a:endParaRPr b="0" lang="en-US" sz="5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a:t>
            </a:r>
            <a:r>
              <a:rPr b="0" lang="en-US" sz="2400" spc="-1" strike="noStrike">
                <a:solidFill>
                  <a:srgbClr val="000000"/>
                </a:solidFill>
                <a:latin typeface="Arial"/>
              </a:rPr>
              <a:t>Set of business processes developed in an organization to create, store, transfer, and apply knowledge </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age adds value to raw data and information as they are transformed into usable knowledg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cquisitio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storag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disseminatio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pplication</a:t>
            </a:r>
            <a:endParaRPr b="0" lang="en-US" sz="2400" spc="-1" strike="noStrike">
              <a:solidFill>
                <a:srgbClr val="000000"/>
              </a:solidFill>
              <a:latin typeface="Arial"/>
            </a:endParaRPr>
          </a:p>
        </p:txBody>
      </p:sp>
      <p:sp>
        <p:nvSpPr>
          <p:cNvPr id="8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8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cquisition</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ing tacit and explicit knowledge</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ing documents, reports, presentations, best practices</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tructured documents (e.g., e-mails)</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online expert network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knowledg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data from TPS and external sources</a:t>
            </a:r>
            <a:endParaRPr b="0" lang="en-US" sz="2000" spc="-1" strike="noStrike">
              <a:solidFill>
                <a:srgbClr val="000000"/>
              </a:solidFill>
              <a:latin typeface="Arial"/>
            </a:endParaRPr>
          </a:p>
        </p:txBody>
      </p:sp>
      <p:sp>
        <p:nvSpPr>
          <p:cNvPr id="8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8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457200" y="1827360"/>
            <a:ext cx="76960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storage</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management system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management:</a:t>
            </a:r>
            <a:endParaRPr b="0" lang="en-US" sz="2000" spc="-1" strike="noStrike">
              <a:solidFill>
                <a:srgbClr val="000000"/>
              </a:solidFill>
              <a:latin typeface="Arial"/>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development of planned knowledge storage systems</a:t>
            </a:r>
            <a:endParaRPr b="0" lang="en-US" sz="2000" spc="-1" strike="noStrike">
              <a:solidFill>
                <a:srgbClr val="000000"/>
              </a:solidFill>
              <a:latin typeface="Arial"/>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development of corporate-wide schemas for indexing documents</a:t>
            </a:r>
            <a:endParaRPr b="0" lang="en-US" sz="2000" spc="-1" strike="noStrike">
              <a:solidFill>
                <a:srgbClr val="000000"/>
              </a:solidFill>
              <a:latin typeface="Arial"/>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ard employees for taking time to update and store documents properly</a:t>
            </a:r>
            <a:endParaRPr b="0" lang="en-US" sz="2000" spc="-1" strike="noStrike">
              <a:solidFill>
                <a:srgbClr val="000000"/>
              </a:solidFill>
              <a:latin typeface="Arial"/>
            </a:endParaRPr>
          </a:p>
        </p:txBody>
      </p:sp>
      <p:sp>
        <p:nvSpPr>
          <p:cNvPr id="8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90"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457200" y="1827360"/>
            <a:ext cx="762012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dissemination</a:t>
            </a:r>
            <a:endParaRPr b="0" lang="en-US" sz="24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l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 e-mail report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tool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luge of information? </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programs, informal networks, and shared management experience help managers focus attention on important information</a:t>
            </a:r>
            <a:endParaRPr b="0" lang="en-US" sz="20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9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57200" y="1828800"/>
            <a:ext cx="76201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pplication </a:t>
            </a:r>
            <a:endParaRPr b="0" lang="en-US" sz="24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return on investment, organizational knowledge must become systematic part of management decision making and become situated in decision-support systems</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business practices</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oducts and services</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ts</a:t>
            </a: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9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Knowledge Management Value Chain</a:t>
            </a:r>
            <a:endParaRPr b="0" lang="en-US" sz="2400" spc="-1" strike="noStrike">
              <a:solidFill>
                <a:srgbClr val="000000"/>
              </a:solidFill>
              <a:latin typeface="Arial"/>
            </a:endParaRPr>
          </a:p>
        </p:txBody>
      </p:sp>
      <p:sp>
        <p:nvSpPr>
          <p:cNvPr id="98" name="Text Box 3"/>
          <p:cNvSpPr/>
          <p:nvPr/>
        </p:nvSpPr>
        <p:spPr>
          <a:xfrm>
            <a:off x="1440" y="527544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9" name="Text Box 4"/>
          <p:cNvSpPr/>
          <p:nvPr/>
        </p:nvSpPr>
        <p:spPr>
          <a:xfrm>
            <a:off x="0" y="556560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nowledge management today involves both information systems activities and a host of enabling management and organizational activities.</a:t>
            </a:r>
            <a:endParaRPr b="0" lang="en-US" sz="900" spc="-1" strike="noStrike">
              <a:solidFill>
                <a:srgbClr val="000000"/>
              </a:solidFill>
              <a:latin typeface="Arial"/>
            </a:endParaRPr>
          </a:p>
        </p:txBody>
      </p:sp>
      <p:sp>
        <p:nvSpPr>
          <p:cNvPr id="100"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101" name="Picture 7" descr="Fig-11-2.tif"/>
          <p:cNvPicPr/>
          <p:nvPr/>
        </p:nvPicPr>
        <p:blipFill>
          <a:blip r:embed="rId2"/>
          <a:stretch/>
        </p:blipFill>
        <p:spPr>
          <a:xfrm>
            <a:off x="1828800" y="2362320"/>
            <a:ext cx="6705720" cy="3701880"/>
          </a:xfrm>
          <a:prstGeom prst="rect">
            <a:avLst/>
          </a:prstGeom>
          <a:ln w="0">
            <a:noFill/>
          </a:ln>
        </p:spPr>
      </p:pic>
      <p:sp>
        <p:nvSpPr>
          <p:cNvPr id="10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organizational roles and responsibilities</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ef knowledge officer executives</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dicated staff / knowledge managers</a:t>
            </a:r>
            <a:endParaRPr b="0" lang="en-US" sz="2400" spc="-1" strike="noStrike">
              <a:solidFill>
                <a:srgbClr val="000000"/>
              </a:solidFill>
              <a:latin typeface="Arial"/>
            </a:endParaRPr>
          </a:p>
          <a:p>
            <a:pPr lvl="1" marL="8002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ies of practice (COPs)</a:t>
            </a:r>
            <a:r>
              <a:rPr b="1" lang="en-US" sz="2800" spc="-1" strike="noStrike">
                <a:solidFill>
                  <a:srgbClr val="000000"/>
                </a:solidFill>
                <a:latin typeface="Arial"/>
              </a:rPr>
              <a:t> </a:t>
            </a:r>
            <a:endParaRPr b="0" lang="en-US" sz="28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l social networks of professionals and employees within and outside firm who have similar work-related activities and interest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include education, online newsletters, sharing experiences and technique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reuse of knowledge, discussion</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learning curves of new employees</a:t>
            </a:r>
            <a:endParaRPr b="0" lang="en-US" sz="2000" spc="-1" strike="noStrike">
              <a:solidFill>
                <a:srgbClr val="000000"/>
              </a:solidFill>
              <a:latin typeface="Arial"/>
            </a:endParaRPr>
          </a:p>
        </p:txBody>
      </p:sp>
      <p:sp>
        <p:nvSpPr>
          <p:cNvPr id="10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05"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3"/>
          <p:cNvSpPr/>
          <p:nvPr/>
        </p:nvSpPr>
        <p:spPr>
          <a:xfrm>
            <a:off x="457200" y="1600200"/>
            <a:ext cx="822960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major types of knowledge management system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wide knowledge management system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purpose firm-wide efforts to collect, store, distribute, and apply digital content and knowledge</a:t>
            </a:r>
            <a:endParaRPr b="0" lang="en-US" sz="1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work systems (KW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systems built for engineers, scientists, other knowledge workers charged with discovering and creating new knowledge</a:t>
            </a:r>
            <a:endParaRPr b="0" lang="en-US" sz="1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igent techniques</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e group of techniques such as data mining used for various goals: discovering knowledge, distilling knowledge, discovering optimal solutions </a:t>
            </a:r>
            <a:endParaRPr b="0" lang="en-US" sz="1800" spc="-1" strike="noStrike">
              <a:solidFill>
                <a:srgbClr val="000000"/>
              </a:solidFill>
              <a:latin typeface="Arial"/>
            </a:endParaRPr>
          </a:p>
        </p:txBody>
      </p:sp>
      <p:sp>
        <p:nvSpPr>
          <p:cNvPr id="10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08"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Types of Knowledge Management Systems</a:t>
            </a:r>
            <a:endParaRPr b="0" lang="en-US" sz="2400" spc="-1" strike="noStrike">
              <a:solidFill>
                <a:srgbClr val="000000"/>
              </a:solidFill>
              <a:latin typeface="Arial"/>
            </a:endParaRPr>
          </a:p>
        </p:txBody>
      </p:sp>
      <p:sp>
        <p:nvSpPr>
          <p:cNvPr id="110"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11" name="Text Box 4"/>
          <p:cNvSpPr/>
          <p:nvPr/>
        </p:nvSpPr>
        <p:spPr>
          <a:xfrm>
            <a:off x="1905120" y="573084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three major categories of knowledge management systems, and each can be broken down further into more specialized types of knowledge management systems.</a:t>
            </a:r>
            <a:endParaRPr b="0" lang="en-US" sz="900" spc="-1" strike="noStrike">
              <a:solidFill>
                <a:srgbClr val="000000"/>
              </a:solidFill>
              <a:latin typeface="Arial"/>
            </a:endParaRPr>
          </a:p>
        </p:txBody>
      </p:sp>
      <p:sp>
        <p:nvSpPr>
          <p:cNvPr id="11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113" name="Picture 20" descr="Fig-11-3"/>
          <p:cNvPicPr/>
          <p:nvPr/>
        </p:nvPicPr>
        <p:blipFill>
          <a:blip r:embed="rId2"/>
          <a:stretch/>
        </p:blipFill>
        <p:spPr>
          <a:xfrm>
            <a:off x="380880" y="2263680"/>
            <a:ext cx="8382240" cy="3375000"/>
          </a:xfrm>
          <a:prstGeom prst="rect">
            <a:avLst/>
          </a:prstGeom>
          <a:ln w="0">
            <a:noFill/>
          </a:ln>
        </p:spPr>
      </p:pic>
      <p:sp>
        <p:nvSpPr>
          <p:cNvPr id="11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major types of knowledge in enterpris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documents</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ports, presentations</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l rul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mistructured documents</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ails, video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structured, tacit knowledge</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80% of an organization’s business content is semistructured or unstructured</a:t>
            </a:r>
            <a:endParaRPr b="0" lang="en-US" sz="2400" spc="-1" strike="noStrike">
              <a:solidFill>
                <a:srgbClr val="000000"/>
              </a:solidFill>
              <a:latin typeface="Arial"/>
            </a:endParaRPr>
          </a:p>
        </p:txBody>
      </p:sp>
      <p:sp>
        <p:nvSpPr>
          <p:cNvPr id="11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17"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2895480" y="1295280"/>
            <a:ext cx="3267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ess the role of knowledge management and knowledge management programs in business.</a:t>
            </a:r>
            <a:endParaRPr b="0" lang="en-US" sz="2200" spc="-1" strike="noStrike">
              <a:solidFill>
                <a:srgbClr val="000000"/>
              </a:solidFill>
              <a:latin typeface="Arial"/>
            </a:endParaRPr>
          </a:p>
          <a:p>
            <a:pPr marL="343080" indent="-343080">
              <a:spcBef>
                <a:spcPts val="3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the types of systems used for enterprise-wide knowledge management and demonstrate how they provide value for organizations.</a:t>
            </a:r>
            <a:endParaRPr b="0" lang="en-US" sz="2200" spc="-1" strike="noStrike">
              <a:solidFill>
                <a:srgbClr val="000000"/>
              </a:solidFill>
              <a:latin typeface="Arial"/>
            </a:endParaRPr>
          </a:p>
          <a:p>
            <a:pPr marL="343080" indent="-343080">
              <a:spcBef>
                <a:spcPts val="3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scribe the major types of knowledge work systems and assess how they provide value for firms.</a:t>
            </a:r>
            <a:endParaRPr b="0" lang="en-US" sz="2200" spc="-1" strike="noStrike">
              <a:solidFill>
                <a:srgbClr val="000000"/>
              </a:solidFill>
              <a:latin typeface="Arial"/>
            </a:endParaRPr>
          </a:p>
          <a:p>
            <a:pPr marL="343080" indent="-343080">
              <a:spcBef>
                <a:spcPts val="3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business benefits of using intelligent techniques for knowledge management.</a:t>
            </a:r>
            <a:endParaRPr b="0" lang="en-US" sz="2200" spc="-1" strike="noStrike">
              <a:solidFill>
                <a:srgbClr val="000000"/>
              </a:solidFill>
              <a:latin typeface="Arial"/>
            </a:endParaRPr>
          </a:p>
        </p:txBody>
      </p:sp>
      <p:sp>
        <p:nvSpPr>
          <p:cNvPr id="57"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wide content management systems</a:t>
            </a:r>
            <a:endParaRPr b="0" lang="en-US" sz="28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lp capture, store, retrieve, distribute, preserve</a:t>
            </a:r>
            <a:endParaRPr b="0" lang="en-US" sz="2400" spc="-1" strike="noStrike">
              <a:solidFill>
                <a:srgbClr val="000000"/>
              </a:solidFill>
              <a:latin typeface="Arial"/>
            </a:endParaRPr>
          </a:p>
          <a:p>
            <a:pPr lvl="2" marL="1257480" indent="-34308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cuments, reports, best practices</a:t>
            </a:r>
            <a:endParaRPr b="0" lang="en-US" sz="2400" spc="-1" strike="noStrike">
              <a:solidFill>
                <a:srgbClr val="000000"/>
              </a:solidFill>
              <a:latin typeface="Arial"/>
            </a:endParaRPr>
          </a:p>
          <a:p>
            <a:pPr lvl="2" marL="1257480" indent="-34308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mistructured knowledge (e-mails)</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ring in external sources</a:t>
            </a:r>
            <a:endParaRPr b="0" lang="en-US" sz="2400" spc="-1" strike="noStrike">
              <a:solidFill>
                <a:srgbClr val="000000"/>
              </a:solidFill>
              <a:latin typeface="Arial"/>
            </a:endParaRPr>
          </a:p>
          <a:p>
            <a:pPr lvl="2" marL="1257480" indent="-34308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s feeds, research</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ols for communication and collaboration</a:t>
            </a:r>
            <a:endParaRPr b="0" lang="en-US" sz="24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20"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457200" y="13716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nterprise Content Management System</a:t>
            </a:r>
            <a:endParaRPr b="0" lang="en-US" sz="2400" spc="-1" strike="noStrike">
              <a:solidFill>
                <a:srgbClr val="000000"/>
              </a:solidFill>
              <a:latin typeface="Arial"/>
            </a:endParaRPr>
          </a:p>
        </p:txBody>
      </p:sp>
      <p:sp>
        <p:nvSpPr>
          <p:cNvPr id="12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23" name="Text Box 4"/>
          <p:cNvSpPr/>
          <p:nvPr/>
        </p:nvSpPr>
        <p:spPr>
          <a:xfrm>
            <a:off x="1905120" y="5730840"/>
            <a:ext cx="52578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enterprise content management system has capabilities for classifying, organizing, and managing structured and semistructured knowledge and making it available throughout the enterprise</a:t>
            </a:r>
            <a:endParaRPr b="0" lang="en-US" sz="900" spc="-1" strike="noStrike">
              <a:solidFill>
                <a:srgbClr val="000000"/>
              </a:solidFill>
              <a:latin typeface="Arial"/>
            </a:endParaRPr>
          </a:p>
        </p:txBody>
      </p:sp>
      <p:sp>
        <p:nvSpPr>
          <p:cNvPr id="12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25"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pic>
        <p:nvPicPr>
          <p:cNvPr id="126" name="Picture 9" descr="Fig-11-4.tif"/>
          <p:cNvPicPr/>
          <p:nvPr/>
        </p:nvPicPr>
        <p:blipFill>
          <a:blip r:embed="rId2"/>
          <a:stretch/>
        </p:blipFill>
        <p:spPr>
          <a:xfrm>
            <a:off x="1238400" y="2057400"/>
            <a:ext cx="6667200" cy="348444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wide content management systems</a:t>
            </a:r>
            <a:endParaRPr b="0" lang="en-US" sz="28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ey problem – Developing taxonomy</a:t>
            </a:r>
            <a:endParaRPr b="0" lang="en-US" sz="24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nowledge objects must be tagged with categories for retrieval</a:t>
            </a:r>
            <a:endParaRPr b="0" lang="en-US" sz="20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gital asset management systems</a:t>
            </a:r>
            <a:endParaRPr b="0" lang="en-US" sz="24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alized content management systems for classifying, storing, managing unstructured digital data</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hotographs, graphics, video, audio</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29"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network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rovide online directory of corporate experts in well-defined knowledge domain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mmunication technologies to make it easy for employees to find appropriate expert in a company</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systematize solutions developed by experts and store them in knowledge database</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practices </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tly asked questions (FAQ) repository</a:t>
            </a:r>
            <a:endParaRPr b="0" lang="en-US" sz="2000" spc="-1" strike="noStrike">
              <a:solidFill>
                <a:srgbClr val="000000"/>
              </a:solidFill>
              <a:latin typeface="Arial"/>
            </a:endParaRPr>
          </a:p>
        </p:txBody>
      </p:sp>
      <p:sp>
        <p:nvSpPr>
          <p:cNvPr id="13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32"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2"/>
          <p:cNvSpPr/>
          <p:nvPr/>
        </p:nvSpPr>
        <p:spPr>
          <a:xfrm>
            <a:off x="457200" y="13716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nterprise Knowledge Network System</a:t>
            </a:r>
            <a:endParaRPr b="0" lang="en-US" sz="2400" spc="-1" strike="noStrike">
              <a:solidFill>
                <a:srgbClr val="000000"/>
              </a:solidFill>
              <a:latin typeface="Arial"/>
            </a:endParaRPr>
          </a:p>
        </p:txBody>
      </p:sp>
      <p:sp>
        <p:nvSpPr>
          <p:cNvPr id="134" name="Text Box 3"/>
          <p:cNvSpPr/>
          <p:nvPr/>
        </p:nvSpPr>
        <p:spPr>
          <a:xfrm>
            <a:off x="1440" y="4403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5" name="Text Box 4"/>
          <p:cNvSpPr/>
          <p:nvPr/>
        </p:nvSpPr>
        <p:spPr>
          <a:xfrm>
            <a:off x="0" y="4784760"/>
            <a:ext cx="22096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knowledge network  maintains a database of firm experts, as well as accepted solutions to known problems, and then facilitates the communication between employees looking for knowledge and experts who have that knowledge. Solutions created in this communication are then added to a database of solutions in the form of FAQs, best practices, or other documents.</a:t>
            </a:r>
            <a:endParaRPr b="0" lang="en-US" sz="900" spc="-1" strike="noStrike">
              <a:solidFill>
                <a:srgbClr val="000000"/>
              </a:solidFill>
              <a:latin typeface="Arial"/>
            </a:endParaRPr>
          </a:p>
        </p:txBody>
      </p:sp>
      <p:sp>
        <p:nvSpPr>
          <p:cNvPr id="13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37"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pic>
        <p:nvPicPr>
          <p:cNvPr id="138" name="Picture 11" descr="Fig-11-5a.tif"/>
          <p:cNvPicPr/>
          <p:nvPr/>
        </p:nvPicPr>
        <p:blipFill>
          <a:blip r:embed="rId2"/>
          <a:stretch/>
        </p:blipFill>
        <p:spPr>
          <a:xfrm>
            <a:off x="3067200" y="2057400"/>
            <a:ext cx="3009600" cy="408924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3"/>
          <p:cNvSpPr/>
          <p:nvPr/>
        </p:nvSpPr>
        <p:spPr>
          <a:xfrm>
            <a:off x="457200" y="1523880"/>
            <a:ext cx="8001000" cy="4724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knowledge management system vendors  include powerful portal and collaboration technologie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rtal technologies: Access to external information</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s feeds, research</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ess to internal knowledge resource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aboration tool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ail</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cussion group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og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ki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cial bookmarking</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41"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3"/>
          <p:cNvSpPr/>
          <p:nvPr/>
        </p:nvSpPr>
        <p:spPr>
          <a:xfrm>
            <a:off x="457200" y="1827360"/>
            <a:ext cx="784872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arning management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rovide tools for management, delivery, tracking, and assessment of various types of employee learning and training</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ultiple modes of learning </a:t>
            </a:r>
            <a:endParaRPr b="0" lang="en-US" sz="2000" spc="-1" strike="noStrike">
              <a:solidFill>
                <a:srgbClr val="000000"/>
              </a:solidFill>
              <a:latin typeface="Arial"/>
            </a:endParaRPr>
          </a:p>
          <a:p>
            <a:pPr lvl="2" marL="1200240" indent="-28584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ROM, Web-based classes, online forums, live instruction, etc.</a:t>
            </a:r>
            <a:endParaRPr b="0" lang="en-US" sz="18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s selection and administration of cours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es and delivers learning conten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learning effectiveness</a:t>
            </a:r>
            <a:endParaRPr b="0" lang="en-US" sz="2000" spc="-1" strike="noStrike">
              <a:solidFill>
                <a:srgbClr val="000000"/>
              </a:solidFill>
              <a:latin typeface="Arial"/>
            </a:endParaRPr>
          </a:p>
        </p:txBody>
      </p:sp>
      <p:sp>
        <p:nvSpPr>
          <p:cNvPr id="14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44"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2"/>
          <p:cNvSpPr/>
          <p:nvPr/>
        </p:nvSpPr>
        <p:spPr>
          <a:xfrm>
            <a:off x="457200" y="205740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 Web 2.0 tools help companies manage knowledge, coordinate work, and enhance decision making?</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problems do blogs, wikis, and other social networking tools help solv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how a company such as Wal-Mart or Proctor &amp; Gamble would benefit from using Web 2.0 tools internall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challenges do companies face in spreading the use of Web 2.0? What issues should managers be concerned with?</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Rectangle 3"/>
          <p:cNvSpPr/>
          <p:nvPr/>
        </p:nvSpPr>
        <p:spPr>
          <a:xfrm>
            <a:off x="343080" y="14479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with Web 2.0</a:t>
            </a:r>
            <a:endParaRPr b="0" lang="en-US" sz="2400" spc="-1" strike="noStrike">
              <a:solidFill>
                <a:srgbClr val="000000"/>
              </a:solidFill>
              <a:latin typeface="Arial"/>
            </a:endParaRPr>
          </a:p>
        </p:txBody>
      </p:sp>
      <p:sp>
        <p:nvSpPr>
          <p:cNvPr id="147" name="Rectangle 1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48"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
        <p:nvSpPr>
          <p:cNvPr id="150"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work syste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for knowledge workers to help create new knowledge and ensure that knowledge is properly integrated into business</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worker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rs, designers, architects, scientists, and engineers who create knowledge and information for the organiz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key rol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ing organization current in knowledg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as internal consultants regarding their areas of expertis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ng as change agents, evaluating, initiating, and promoting change projects</a:t>
            </a:r>
            <a:endParaRPr b="0" lang="en-US" sz="1800" spc="-1" strike="noStrike">
              <a:solidFill>
                <a:srgbClr val="000000"/>
              </a:solidFill>
              <a:latin typeface="Arial"/>
            </a:endParaRPr>
          </a:p>
        </p:txBody>
      </p:sp>
      <p:sp>
        <p:nvSpPr>
          <p:cNvPr id="15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3"/>
          <p:cNvSpPr/>
          <p:nvPr/>
        </p:nvSpPr>
        <p:spPr>
          <a:xfrm>
            <a:off x="457200" y="182736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irements of knowledge work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 computing power for graphics, complex calculation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ful graphics, and analytical tool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and document management capabiliti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external databas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friendly interfac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d for tasks to be performed (design engineering, financial analysis)</a:t>
            </a:r>
            <a:endParaRPr b="0" lang="en-US" sz="2000" spc="-1" strike="noStrike">
              <a:solidFill>
                <a:srgbClr val="000000"/>
              </a:solidFill>
              <a:latin typeface="Arial"/>
            </a:endParaRPr>
          </a:p>
        </p:txBody>
      </p:sp>
      <p:sp>
        <p:nvSpPr>
          <p:cNvPr id="15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5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990720" y="1339920"/>
            <a:ext cx="7162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mp;G Moves from Paper to Pixels for Knowledge Management</a:t>
            </a:r>
            <a:endParaRPr b="0" lang="en-US" sz="1600" spc="-1" strike="noStrike">
              <a:solidFill>
                <a:srgbClr val="000000"/>
              </a:solidFill>
              <a:latin typeface="Arial"/>
            </a:endParaRPr>
          </a:p>
        </p:txBody>
      </p:sp>
      <p:sp>
        <p:nvSpPr>
          <p:cNvPr id="59" name=""/>
          <p:cNvSpPr txBox="1"/>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Document-intensive research and development dependent on paper records</a:t>
            </a:r>
            <a:endParaRPr b="0" lang="en-US" sz="2200" spc="-1" strike="noStrike">
              <a:solidFill>
                <a:srgbClr val="000000"/>
              </a:solidFill>
              <a:latin typeface="Constantia"/>
            </a:endParaRPr>
          </a:p>
          <a:p>
            <a:pPr marL="343080" indent="-3430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Electronic document management system </a:t>
            </a:r>
            <a:r>
              <a:rPr b="1" lang="en-US" sz="2200" spc="-1" strike="noStrike">
                <a:solidFill>
                  <a:srgbClr val="000000"/>
                </a:solidFill>
                <a:latin typeface="Arial"/>
              </a:rPr>
              <a:t>stores research information digitally</a:t>
            </a:r>
            <a:endParaRPr b="0" lang="en-US" sz="2200" spc="-1" strike="noStrike">
              <a:solidFill>
                <a:srgbClr val="000000"/>
              </a:solidFill>
              <a:latin typeface="Constantia"/>
            </a:endParaRPr>
          </a:p>
          <a:p>
            <a:pPr marL="343080" indent="-3430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eLab Notebook documentum management software </a:t>
            </a:r>
            <a:r>
              <a:rPr b="1" lang="en-US" sz="2200" spc="-1" strike="noStrike">
                <a:solidFill>
                  <a:srgbClr val="000000"/>
                </a:solidFill>
                <a:latin typeface="Arial"/>
              </a:rPr>
              <a:t>creates PDFs, enables digital signatures, embeds usage rights, enables digital searching of library</a:t>
            </a: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reducing cost by making organizational knowledge more easily available</a:t>
            </a: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how an organization can become more efficient and profitable through content management</a:t>
            </a:r>
            <a:endParaRPr b="0" lang="en-US" sz="2200" spc="-1" strike="noStrike">
              <a:solidFill>
                <a:srgbClr val="000000"/>
              </a:solidFill>
              <a:latin typeface="Constantia"/>
            </a:endParaRPr>
          </a:p>
        </p:txBody>
      </p:sp>
      <p:sp>
        <p:nvSpPr>
          <p:cNvPr id="60"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quirements of Knowledge Work Systems</a:t>
            </a:r>
            <a:endParaRPr b="0" lang="en-US" sz="2400" spc="-1" strike="noStrike">
              <a:solidFill>
                <a:srgbClr val="000000"/>
              </a:solidFill>
              <a:latin typeface="Arial"/>
            </a:endParaRPr>
          </a:p>
        </p:txBody>
      </p:sp>
      <p:sp>
        <p:nvSpPr>
          <p:cNvPr id="15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7" name="Text Box 4"/>
          <p:cNvSpPr/>
          <p:nvPr/>
        </p:nvSpPr>
        <p:spPr>
          <a:xfrm>
            <a:off x="1066680" y="5867280"/>
            <a:ext cx="7848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nowledge work systems require strong links to external knowledge bases in addition to specialized hardware and software.</a:t>
            </a:r>
            <a:endParaRPr b="0" lang="en-US" sz="900" spc="-1" strike="noStrike">
              <a:solidFill>
                <a:srgbClr val="000000"/>
              </a:solidFill>
              <a:latin typeface="Arial"/>
            </a:endParaRPr>
          </a:p>
        </p:txBody>
      </p:sp>
      <p:sp>
        <p:nvSpPr>
          <p:cNvPr id="158" name="Rectangle 2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159" name="Picture 29" descr="Fig-11-8"/>
          <p:cNvPicPr/>
          <p:nvPr/>
        </p:nvPicPr>
        <p:blipFill>
          <a:blip r:embed="rId2"/>
          <a:stretch/>
        </p:blipFill>
        <p:spPr>
          <a:xfrm>
            <a:off x="1981080" y="2165400"/>
            <a:ext cx="5195880" cy="3603600"/>
          </a:xfrm>
          <a:prstGeom prst="rect">
            <a:avLst/>
          </a:prstGeom>
          <a:ln w="0">
            <a:noFill/>
          </a:ln>
        </p:spPr>
      </p:pic>
      <p:sp>
        <p:nvSpPr>
          <p:cNvPr id="16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of knowledge work system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D (computer-aided design): </a:t>
            </a:r>
            <a:r>
              <a:rPr b="0" lang="en-US" sz="2000" spc="-1" strike="noStrike">
                <a:solidFill>
                  <a:srgbClr val="000000"/>
                </a:solidFill>
                <a:latin typeface="Arial"/>
                <a:ea typeface="Times New Roman"/>
              </a:rPr>
              <a:t>A</a:t>
            </a:r>
            <a:r>
              <a:rPr b="0" lang="en-US" sz="2000" spc="-1" strike="noStrike">
                <a:solidFill>
                  <a:srgbClr val="000000"/>
                </a:solidFill>
                <a:latin typeface="Arial"/>
              </a:rPr>
              <a:t>utomates creation and revision of engineering or architectural designs, using computers and sophisticated graphics software</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irtual reality systems: </a:t>
            </a:r>
            <a:r>
              <a:rPr b="0" lang="en-US" sz="2000" spc="-1" strike="noStrike">
                <a:solidFill>
                  <a:srgbClr val="000000"/>
                </a:solidFill>
                <a:latin typeface="Arial"/>
                <a:ea typeface="Times New Roman"/>
              </a:rPr>
              <a:t>Software and special hardware to simulate real-life environments</a:t>
            </a:r>
            <a:endParaRPr b="0" lang="en-US" sz="20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3-D medical modeling for surgeon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RML: </a:t>
            </a:r>
            <a:r>
              <a:rPr b="0" lang="en-US" sz="1800" spc="-1" strike="noStrike">
                <a:solidFill>
                  <a:srgbClr val="000000"/>
                </a:solidFill>
                <a:latin typeface="Arial"/>
              </a:rPr>
              <a:t>Specifications for interactive, 3D modeling over Internet</a:t>
            </a:r>
            <a:endParaRPr b="0" lang="en-US" sz="1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vestment workstations: </a:t>
            </a:r>
            <a:r>
              <a:rPr b="0" lang="en-US" sz="2000" spc="-1" strike="noStrike">
                <a:solidFill>
                  <a:srgbClr val="000000"/>
                </a:solidFill>
                <a:latin typeface="Arial"/>
                <a:ea typeface="Times New Roman"/>
              </a:rPr>
              <a:t>S</a:t>
            </a:r>
            <a:r>
              <a:rPr b="0" lang="en-US" sz="2000" spc="-1" strike="noStrike">
                <a:solidFill>
                  <a:srgbClr val="000000"/>
                </a:solidFill>
                <a:latin typeface="Arial"/>
              </a:rPr>
              <a:t>treamline investment process and consolidate internal, external data for brokers, traders, portfolio managers</a:t>
            </a:r>
            <a:endParaRPr b="0" lang="en-US" sz="2000" spc="-1" strike="noStrike">
              <a:solidFill>
                <a:srgbClr val="000000"/>
              </a:solidFill>
              <a:latin typeface="Arial"/>
            </a:endParaRPr>
          </a:p>
        </p:txBody>
      </p:sp>
      <p:sp>
        <p:nvSpPr>
          <p:cNvPr id="16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6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2"/>
          <p:cNvSpPr/>
          <p:nvPr/>
        </p:nvSpPr>
        <p:spPr>
          <a:xfrm>
            <a:off x="457200" y="1828800"/>
            <a:ext cx="82296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lligent techniques: </a:t>
            </a:r>
            <a:r>
              <a:rPr b="0" lang="en-US" sz="2400" spc="-1" strike="noStrike">
                <a:solidFill>
                  <a:srgbClr val="000000"/>
                </a:solidFill>
                <a:latin typeface="Arial"/>
                <a:ea typeface="Times New Roman"/>
              </a:rPr>
              <a:t>Used </a:t>
            </a:r>
            <a:r>
              <a:rPr b="0" lang="en-US" sz="2400" spc="-1" strike="noStrike">
                <a:solidFill>
                  <a:srgbClr val="000000"/>
                </a:solidFill>
                <a:latin typeface="Arial"/>
              </a:rPr>
              <a:t>to capture individual and collective knowledge and to extend knowledge base</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apture tacit knowledge:</a:t>
            </a:r>
            <a:r>
              <a:rPr b="0" lang="en-US" sz="2000" spc="-1" strike="noStrike">
                <a:solidFill>
                  <a:srgbClr val="000000"/>
                </a:solidFill>
                <a:latin typeface="Arial"/>
              </a:rPr>
              <a:t> Expert systems, case-based reasoning, fuzzy logic</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discovery:</a:t>
            </a:r>
            <a:r>
              <a:rPr b="0" lang="en-US" sz="2000" spc="-1" strike="noStrike">
                <a:solidFill>
                  <a:srgbClr val="000000"/>
                </a:solidFill>
                <a:latin typeface="Arial"/>
              </a:rPr>
              <a:t> Neural networks and data mining</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ng solutions to complex problems:</a:t>
            </a:r>
            <a:r>
              <a:rPr b="0" lang="en-US" sz="2000" spc="-1" strike="noStrike">
                <a:solidFill>
                  <a:srgbClr val="000000"/>
                </a:solidFill>
                <a:latin typeface="Arial"/>
              </a:rPr>
              <a:t> Genetic algorithm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ng tasks:</a:t>
            </a:r>
            <a:r>
              <a:rPr b="0" lang="en-US" sz="2000" spc="-1" strike="noStrike">
                <a:solidFill>
                  <a:srgbClr val="000000"/>
                </a:solidFill>
                <a:latin typeface="Arial"/>
              </a:rPr>
              <a:t> Intelligent agent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ficial intelligence (AI) </a:t>
            </a:r>
            <a:r>
              <a:rPr b="0" lang="en-US" sz="2400" spc="-1" strike="noStrike">
                <a:solidFill>
                  <a:srgbClr val="000000"/>
                </a:solidFill>
                <a:latin typeface="Arial"/>
              </a:rPr>
              <a:t>technology: </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based systems that emulate human behavior</a:t>
            </a:r>
            <a:endParaRPr b="0" lang="en-US" sz="2000" spc="-1" strike="noStrike">
              <a:solidFill>
                <a:srgbClr val="000000"/>
              </a:solidFill>
              <a:latin typeface="Arial"/>
            </a:endParaRPr>
          </a:p>
        </p:txBody>
      </p:sp>
      <p:sp>
        <p:nvSpPr>
          <p:cNvPr id="16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
        <p:nvSpPr>
          <p:cNvPr id="16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3"/>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ert systems: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tacit knowledge in very specific and limited domain of human expertis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knowledge of skilled employees as set of rules in software system that can be used by others in organization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perform limited tasks that may take a few minutes or hours, e.g.:</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ing malfunctioning machine</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whether to grant credit for loa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6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les in an Expert System</a:t>
            </a:r>
            <a:endParaRPr b="0" lang="en-US" sz="2400" spc="-1" strike="noStrike">
              <a:solidFill>
                <a:srgbClr val="000000"/>
              </a:solidFill>
              <a:latin typeface="Arial"/>
            </a:endParaRPr>
          </a:p>
        </p:txBody>
      </p:sp>
      <p:sp>
        <p:nvSpPr>
          <p:cNvPr id="171" name="Text Box 3"/>
          <p:cNvSpPr/>
          <p:nvPr/>
        </p:nvSpPr>
        <p:spPr>
          <a:xfrm>
            <a:off x="1440" y="4114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72" name="Text Box 4"/>
          <p:cNvSpPr/>
          <p:nvPr/>
        </p:nvSpPr>
        <p:spPr>
          <a:xfrm>
            <a:off x="0" y="4419720"/>
            <a:ext cx="1600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expert system contains a number of rules to be followed. The rules are interconnected; the number of outcomes is known in advance and is limited; there are multiple paths to the same outcome; and the system can consider multiple rules at a single time. The rules illustrated are for simple credit-granting expert systems.</a:t>
            </a:r>
            <a:endParaRPr b="0" lang="en-US" sz="900" spc="-1" strike="noStrike">
              <a:solidFill>
                <a:srgbClr val="000000"/>
              </a:solidFill>
              <a:latin typeface="Arial"/>
            </a:endParaRPr>
          </a:p>
        </p:txBody>
      </p:sp>
      <p:sp>
        <p:nvSpPr>
          <p:cNvPr id="17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174" name="Object 8"/>
          <p:cNvGraphicFramePr/>
          <p:nvPr/>
        </p:nvGraphicFramePr>
        <p:xfrm>
          <a:off x="1981080" y="2081160"/>
          <a:ext cx="5207040" cy="4319640"/>
        </p:xfrm>
        <a:graphic>
          <a:graphicData uri="http://schemas.openxmlformats.org/presentationml/2006/ole">
            <p:oleObj r:id="rId2" spid="">
              <p:embed/>
              <p:pic>
                <p:nvPicPr>
                  <p:cNvPr id="175" name="Object 8" descr=""/>
                  <p:cNvPicPr/>
                  <p:nvPr/>
                </p:nvPicPr>
                <p:blipFill>
                  <a:blip r:embed="rId3"/>
                  <a:stretch/>
                </p:blipFill>
                <p:spPr>
                  <a:xfrm>
                    <a:off x="1981080" y="2081160"/>
                    <a:ext cx="5207040" cy="4319640"/>
                  </a:xfrm>
                  <a:prstGeom prst="rect">
                    <a:avLst/>
                  </a:prstGeom>
                  <a:ln w="0">
                    <a:noFill/>
                  </a:ln>
                </p:spPr>
              </p:pic>
            </p:oleObj>
          </a:graphicData>
        </a:graphic>
      </p:graphicFrame>
      <p:sp>
        <p:nvSpPr>
          <p:cNvPr id="17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expert systems work </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base: </a:t>
            </a:r>
            <a:r>
              <a:rPr b="0" lang="en-US" sz="2400" spc="-1" strike="noStrike">
                <a:solidFill>
                  <a:srgbClr val="000000"/>
                </a:solidFill>
                <a:latin typeface="Arial"/>
                <a:ea typeface="Times New Roman"/>
              </a:rPr>
              <a:t>Set of hundreds or thousands of rul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erence engine: </a:t>
            </a:r>
            <a:r>
              <a:rPr b="0" lang="en-US" sz="2400" spc="-1" strike="noStrike">
                <a:solidFill>
                  <a:srgbClr val="000000"/>
                </a:solidFill>
                <a:latin typeface="Arial"/>
                <a:ea typeface="Times New Roman"/>
              </a:rPr>
              <a:t>Strategy used to search knowledge base</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ward chaining: </a:t>
            </a:r>
            <a:r>
              <a:rPr b="0" lang="en-US" sz="2000" spc="-1" strike="noStrike">
                <a:solidFill>
                  <a:srgbClr val="000000"/>
                </a:solidFill>
                <a:latin typeface="Arial"/>
              </a:rPr>
              <a:t>Inference engine begins with information entered by user and searches knowledge base to arrive at conclusion</a:t>
            </a:r>
            <a:endParaRPr b="0" lang="en-US" sz="20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haining:</a:t>
            </a:r>
            <a:r>
              <a:rPr b="0" lang="en-US" sz="2000" spc="-1" strike="noStrike">
                <a:solidFill>
                  <a:srgbClr val="000000"/>
                </a:solidFill>
                <a:latin typeface="Arial"/>
              </a:rPr>
              <a:t> Begins with hypothesis and asks user questions until hypothesis is confirmed or disproved</a:t>
            </a:r>
            <a:endParaRPr b="0" lang="en-US" sz="2000" spc="-1" strike="noStrike">
              <a:solidFill>
                <a:srgbClr val="000000"/>
              </a:solidFill>
              <a:latin typeface="Arial"/>
            </a:endParaRPr>
          </a:p>
        </p:txBody>
      </p:sp>
      <p:sp>
        <p:nvSpPr>
          <p:cNvPr id="17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7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2"/>
          <p:cNvSpPr/>
          <p:nvPr/>
        </p:nvSpPr>
        <p:spPr>
          <a:xfrm>
            <a:off x="685800" y="13716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erence Engines in Expert Systems</a:t>
            </a:r>
            <a:endParaRPr b="0" lang="en-US" sz="2400" spc="-1" strike="noStrike">
              <a:solidFill>
                <a:srgbClr val="000000"/>
              </a:solidFill>
              <a:latin typeface="Arial"/>
            </a:endParaRPr>
          </a:p>
        </p:txBody>
      </p:sp>
      <p:sp>
        <p:nvSpPr>
          <p:cNvPr id="181"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82" name="Text Box 4"/>
          <p:cNvSpPr/>
          <p:nvPr/>
        </p:nvSpPr>
        <p:spPr>
          <a:xfrm>
            <a:off x="533520" y="5638680"/>
            <a:ext cx="80010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ference engine works by searching through the rules and “firing” those rules that are triggered by facts gathered and entered by the user. A collection of rules is similar to  a series of nested IF statements in a traditional software system; however the magnitude of the statements and degree of nesting are much greater in an expert system</a:t>
            </a:r>
            <a:endParaRPr b="0" lang="en-US" sz="900" spc="-1" strike="noStrike">
              <a:solidFill>
                <a:srgbClr val="000000"/>
              </a:solidFill>
              <a:latin typeface="Arial"/>
            </a:endParaRPr>
          </a:p>
        </p:txBody>
      </p:sp>
      <p:sp>
        <p:nvSpPr>
          <p:cNvPr id="183"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184" name="Object 12"/>
          <p:cNvGraphicFramePr/>
          <p:nvPr/>
        </p:nvGraphicFramePr>
        <p:xfrm>
          <a:off x="190440" y="1908000"/>
          <a:ext cx="8724960" cy="3413160"/>
        </p:xfrm>
        <a:graphic>
          <a:graphicData uri="http://schemas.openxmlformats.org/presentationml/2006/ole">
            <p:oleObj r:id="rId2" spid="">
              <p:embed/>
              <p:pic>
                <p:nvPicPr>
                  <p:cNvPr id="185" name="Object 12" descr=""/>
                  <p:cNvPicPr/>
                  <p:nvPr/>
                </p:nvPicPr>
                <p:blipFill>
                  <a:blip r:embed="rId3"/>
                  <a:stretch/>
                </p:blipFill>
                <p:spPr>
                  <a:xfrm>
                    <a:off x="190440" y="1908000"/>
                    <a:ext cx="8724960" cy="3413160"/>
                  </a:xfrm>
                  <a:prstGeom prst="rect">
                    <a:avLst/>
                  </a:prstGeom>
                  <a:ln w="0">
                    <a:noFill/>
                  </a:ln>
                </p:spPr>
              </p:pic>
            </p:oleObj>
          </a:graphicData>
        </a:graphic>
      </p:graphicFrame>
      <p:sp>
        <p:nvSpPr>
          <p:cNvPr id="18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ccessful expert syste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ywide Funding Corporation in Pasadena, California, uses expert system to improve decisions about granting loa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Way Transportation built expert system to automate and optimize planning of overnight shipment routes for nationwide freight-trucking business</a:t>
            </a:r>
            <a:endParaRPr b="0" lang="en-US" sz="2000" spc="-1" strike="noStrike">
              <a:solidFill>
                <a:srgbClr val="000000"/>
              </a:solidFill>
              <a:latin typeface="Arial"/>
            </a:endParaRPr>
          </a:p>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ert systems deal with problems of classific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relatively few alternative outcomes </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outcomes are known in advanc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expert systems require large, lengthy, and expensive development and maintenance effor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ring or training more experts may be less expensive</a:t>
            </a:r>
            <a:endParaRPr b="0" lang="en-US" sz="2000" spc="-1" strike="noStrike">
              <a:solidFill>
                <a:srgbClr val="000000"/>
              </a:solidFill>
              <a:latin typeface="Arial"/>
            </a:endParaRPr>
          </a:p>
        </p:txBody>
      </p:sp>
      <p:sp>
        <p:nvSpPr>
          <p:cNvPr id="18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8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se-based reasoning (CBR)</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s of past experiences of human specialists, represented as cases, stored in knowledge bas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searches for stored cases with problem characteristics similar to new one, finds closest fit, and applies solutions of old case to new cas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and unsuccessful applications are grouped with cas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s organizational intelligence: Knowledge base is continuously expanded and refined by user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R found in</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dical diagnostic system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stomer support</a:t>
            </a:r>
            <a:endParaRPr b="0" lang="en-US" sz="1800" spc="-1" strike="noStrike">
              <a:solidFill>
                <a:srgbClr val="000000"/>
              </a:solidFill>
              <a:latin typeface="Arial"/>
            </a:endParaRPr>
          </a:p>
        </p:txBody>
      </p:sp>
      <p:sp>
        <p:nvSpPr>
          <p:cNvPr id="19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9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ase-Based Reasoning Works</a:t>
            </a:r>
            <a:endParaRPr b="0" lang="en-US" sz="2400" spc="-1" strike="noStrike">
              <a:solidFill>
                <a:srgbClr val="000000"/>
              </a:solidFill>
              <a:latin typeface="Arial"/>
            </a:endParaRPr>
          </a:p>
        </p:txBody>
      </p:sp>
      <p:sp>
        <p:nvSpPr>
          <p:cNvPr id="194" name="Text Box 3"/>
          <p:cNvSpPr/>
          <p:nvPr/>
        </p:nvSpPr>
        <p:spPr>
          <a:xfrm>
            <a:off x="1440" y="53974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95" name="Text Box 4"/>
          <p:cNvSpPr/>
          <p:nvPr/>
        </p:nvSpPr>
        <p:spPr>
          <a:xfrm>
            <a:off x="0" y="5702400"/>
            <a:ext cx="24382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se-based reasoning represents knowledge as a database of past cases and their solutions. The system uses a six-step process to generate solutions to new problems encountered by the user.</a:t>
            </a:r>
            <a:endParaRPr b="0" lang="en-US" sz="900" spc="-1" strike="noStrike">
              <a:solidFill>
                <a:srgbClr val="000000"/>
              </a:solidFill>
              <a:latin typeface="Arial"/>
            </a:endParaRPr>
          </a:p>
        </p:txBody>
      </p:sp>
      <p:sp>
        <p:nvSpPr>
          <p:cNvPr id="19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197" name="Object 8"/>
          <p:cNvGraphicFramePr/>
          <p:nvPr/>
        </p:nvGraphicFramePr>
        <p:xfrm>
          <a:off x="2895480" y="2133720"/>
          <a:ext cx="3233880" cy="4343400"/>
        </p:xfrm>
        <a:graphic>
          <a:graphicData uri="http://schemas.openxmlformats.org/presentationml/2006/ole">
            <p:oleObj r:id="rId2" spid="">
              <p:embed/>
              <p:pic>
                <p:nvPicPr>
                  <p:cNvPr id="198" name="Object 8" descr=""/>
                  <p:cNvPicPr/>
                  <p:nvPr/>
                </p:nvPicPr>
                <p:blipFill>
                  <a:blip r:embed="rId3"/>
                  <a:stretch/>
                </p:blipFill>
                <p:spPr>
                  <a:xfrm>
                    <a:off x="2895480" y="2133720"/>
                    <a:ext cx="3233880" cy="4343400"/>
                  </a:xfrm>
                  <a:prstGeom prst="rect">
                    <a:avLst/>
                  </a:prstGeom>
                  <a:ln w="0">
                    <a:noFill/>
                  </a:ln>
                </p:spPr>
              </p:pic>
            </p:oleObj>
          </a:graphicData>
        </a:graphic>
      </p:graphicFrame>
      <p:sp>
        <p:nvSpPr>
          <p:cNvPr id="19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
        <p:nvSpPr>
          <p:cNvPr id="62" name="Rectangle 6"/>
          <p:cNvSpPr/>
          <p:nvPr/>
        </p:nvSpPr>
        <p:spPr>
          <a:xfrm>
            <a:off x="495360" y="1600200"/>
            <a:ext cx="8153280" cy="4573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es of enterprise content management software for knowledge management expected to grow 15 percent annually through 2012</a:t>
            </a:r>
            <a:endParaRPr b="0" lang="en-US" sz="2200" spc="-1" strike="noStrike">
              <a:solidFill>
                <a:srgbClr val="000000"/>
              </a:solidFill>
              <a:latin typeface="Arial"/>
            </a:endParaRPr>
          </a:p>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Economy</a:t>
            </a:r>
            <a:endParaRPr b="0" lang="en-US" sz="2200" spc="-1" strike="noStrike">
              <a:solidFill>
                <a:srgbClr val="000000"/>
              </a:solidFill>
              <a:latin typeface="Arial"/>
            </a:endParaRPr>
          </a:p>
          <a:p>
            <a:pPr lvl="1" marL="800280" indent="-3430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 U.S. labor force: knowledge and information workers</a:t>
            </a:r>
            <a:endParaRPr b="0" lang="en-US" sz="2200" spc="-1" strike="noStrike">
              <a:solidFill>
                <a:srgbClr val="000000"/>
              </a:solidFill>
              <a:latin typeface="Arial"/>
            </a:endParaRPr>
          </a:p>
          <a:p>
            <a:pPr lvl="1" marL="800280" indent="-3430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0% U.S. GDP from knowledge and information sectors</a:t>
            </a:r>
            <a:endParaRPr b="0" lang="en-US" sz="2200" spc="-1" strike="noStrike">
              <a:solidFill>
                <a:srgbClr val="000000"/>
              </a:solidFill>
              <a:latin typeface="Arial"/>
            </a:endParaRPr>
          </a:p>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stantial part of a firm’s stock market value is related to intangible assets: knowledge, brands, reputations, and unique business processes</a:t>
            </a:r>
            <a:endParaRPr b="0" lang="en-US" sz="2200" spc="-1" strike="noStrike">
              <a:solidFill>
                <a:srgbClr val="000000"/>
              </a:solidFill>
              <a:latin typeface="Arial"/>
            </a:endParaRPr>
          </a:p>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based projects can produce extraordinary ROI</a:t>
            </a:r>
            <a:endParaRPr b="0" lang="en-US" sz="2200" spc="-1" strike="noStrike">
              <a:solidFill>
                <a:srgbClr val="000000"/>
              </a:solidFill>
              <a:latin typeface="Arial"/>
            </a:endParaRPr>
          </a:p>
        </p:txBody>
      </p:sp>
      <p:sp>
        <p:nvSpPr>
          <p:cNvPr id="6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zzy logic systems</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based technology that represents imprecision used in linguistic categories (e.g., “cold,” “cool”) that represent range of value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a particular phenomenon or process linguistically and then represent that description in a small number of flexible rule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solutions to problems requiring expertise that is difficult to represent with IF-THEN rules</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focus in cameras</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ing possible medical fraud</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ai’s subway system use of fuzzy logic controls to accelerate smoothly</a:t>
            </a:r>
            <a:endParaRPr b="0" lang="en-US" sz="2000" spc="-1" strike="noStrike">
              <a:solidFill>
                <a:srgbClr val="000000"/>
              </a:solidFill>
              <a:latin typeface="Arial"/>
            </a:endParaRPr>
          </a:p>
        </p:txBody>
      </p:sp>
      <p:sp>
        <p:nvSpPr>
          <p:cNvPr id="20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0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zzy Logic for Temperature Control</a:t>
            </a:r>
            <a:endParaRPr b="0" lang="en-US" sz="2400" spc="-1" strike="noStrike">
              <a:solidFill>
                <a:srgbClr val="000000"/>
              </a:solidFill>
              <a:latin typeface="Arial"/>
            </a:endParaRPr>
          </a:p>
        </p:txBody>
      </p:sp>
      <p:sp>
        <p:nvSpPr>
          <p:cNvPr id="204" name="Text Box 3"/>
          <p:cNvSpPr/>
          <p:nvPr/>
        </p:nvSpPr>
        <p:spPr>
          <a:xfrm>
            <a:off x="390780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t>
            </a:r>
            <a:endParaRPr b="0" lang="en-US" sz="1800" spc="-1" strike="noStrike">
              <a:solidFill>
                <a:srgbClr val="000000"/>
              </a:solidFill>
              <a:latin typeface="Arial"/>
            </a:endParaRPr>
          </a:p>
        </p:txBody>
      </p:sp>
      <p:sp>
        <p:nvSpPr>
          <p:cNvPr id="205" name="Text Box 4"/>
          <p:cNvSpPr/>
          <p:nvPr/>
        </p:nvSpPr>
        <p:spPr>
          <a:xfrm>
            <a:off x="914400" y="579132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embership functions for the input called temperature are in the logic of the thermostat to control the room temperature. Membership functions help translate linguistic expressions such as warm into numbers that the computer can manipulate.</a:t>
            </a:r>
            <a:endParaRPr b="0" lang="en-US" sz="900" spc="-1" strike="noStrike">
              <a:solidFill>
                <a:srgbClr val="000000"/>
              </a:solidFill>
              <a:latin typeface="Arial"/>
            </a:endParaRPr>
          </a:p>
        </p:txBody>
      </p:sp>
      <p:sp>
        <p:nvSpPr>
          <p:cNvPr id="20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07"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pic>
        <p:nvPicPr>
          <p:cNvPr id="208" name="Picture 8" descr="Fig-11-10a.tif"/>
          <p:cNvPicPr/>
          <p:nvPr/>
        </p:nvPicPr>
        <p:blipFill>
          <a:blip r:embed="rId2"/>
          <a:stretch/>
        </p:blipFill>
        <p:spPr>
          <a:xfrm>
            <a:off x="914400" y="2438280"/>
            <a:ext cx="7315200" cy="2832120"/>
          </a:xfrm>
          <a:prstGeom prst="rect">
            <a:avLst/>
          </a:prstGeom>
          <a:ln w="0">
            <a:noFill/>
          </a:ln>
        </p:spPr>
      </p:pic>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Rectangle 2"/>
          <p:cNvSpPr/>
          <p:nvPr/>
        </p:nvSpPr>
        <p:spPr>
          <a:xfrm>
            <a:off x="419040" y="1600200"/>
            <a:ext cx="830592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ural network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t>
            </a:r>
            <a:r>
              <a:rPr b="0" lang="en-US" sz="2000" spc="-1" strike="noStrike">
                <a:solidFill>
                  <a:srgbClr val="000000"/>
                </a:solidFill>
                <a:latin typeface="Arial"/>
              </a:rPr>
              <a:t>ind patterns and relationships in massive amounts of data that are too complicated for human to analyz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earn” patterns by searching for relationships, building models, and correcting over and over again model’s own mistak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s “train” network by feeding it data inputs for which outputs are known, to help neural network learn solution by example </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medicine, science, and business for problems in pattern classification, prediction, financial analysis, and control and optimiza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hine learning: </a:t>
            </a:r>
            <a:r>
              <a:rPr b="0" lang="en-US" sz="2000" spc="-1" strike="noStrike">
                <a:solidFill>
                  <a:srgbClr val="000000"/>
                </a:solidFill>
                <a:latin typeface="Arial"/>
              </a:rPr>
              <a:t>Related AI technology allowing computers to learn by extracting information using computation and statistical methods</a:t>
            </a:r>
            <a:endParaRPr b="0" lang="en-US" sz="2000" spc="-1" strike="noStrike">
              <a:solidFill>
                <a:srgbClr val="000000"/>
              </a:solidFill>
              <a:latin typeface="Arial"/>
            </a:endParaRPr>
          </a:p>
        </p:txBody>
      </p:sp>
      <p:sp>
        <p:nvSpPr>
          <p:cNvPr id="21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11"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 Neural Network Works</a:t>
            </a:r>
            <a:endParaRPr b="0" lang="en-US" sz="2400" spc="-1" strike="noStrike">
              <a:solidFill>
                <a:srgbClr val="000000"/>
              </a:solidFill>
              <a:latin typeface="Arial"/>
            </a:endParaRPr>
          </a:p>
        </p:txBody>
      </p:sp>
      <p:sp>
        <p:nvSpPr>
          <p:cNvPr id="213" name="Text Box 3"/>
          <p:cNvSpPr/>
          <p:nvPr/>
        </p:nvSpPr>
        <p:spPr>
          <a:xfrm>
            <a:off x="390168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4" name="Text Box 4"/>
          <p:cNvSpPr/>
          <p:nvPr/>
        </p:nvSpPr>
        <p:spPr>
          <a:xfrm>
            <a:off x="1523880" y="5562720"/>
            <a:ext cx="609624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neural network uses rules it “learns” from patterns in data to construct a hidden layer of logic. The hidden layer then processes inputs, classifying them based on the experience of the model. In this example, the neural network has been trained to distinguish between valid and fraudulent credit card purchases. </a:t>
            </a:r>
            <a:endParaRPr b="0" lang="en-US" sz="900" spc="-1" strike="noStrike">
              <a:solidFill>
                <a:srgbClr val="000000"/>
              </a:solidFill>
              <a:latin typeface="Arial"/>
            </a:endParaRPr>
          </a:p>
        </p:txBody>
      </p:sp>
      <p:sp>
        <p:nvSpPr>
          <p:cNvPr id="215"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216" name="Object 8"/>
          <p:cNvGraphicFramePr/>
          <p:nvPr/>
        </p:nvGraphicFramePr>
        <p:xfrm>
          <a:off x="609480" y="2133720"/>
          <a:ext cx="8001000" cy="3443040"/>
        </p:xfrm>
        <a:graphic>
          <a:graphicData uri="http://schemas.openxmlformats.org/presentationml/2006/ole">
            <p:oleObj r:id="rId2" spid="">
              <p:embed/>
              <p:pic>
                <p:nvPicPr>
                  <p:cNvPr id="217" name="Object 8" descr=""/>
                  <p:cNvPicPr/>
                  <p:nvPr/>
                </p:nvPicPr>
                <p:blipFill>
                  <a:blip r:embed="rId3"/>
                  <a:stretch/>
                </p:blipFill>
                <p:spPr>
                  <a:xfrm>
                    <a:off x="609480" y="2133720"/>
                    <a:ext cx="8001000" cy="3443040"/>
                  </a:xfrm>
                  <a:prstGeom prst="rect">
                    <a:avLst/>
                  </a:prstGeom>
                  <a:ln w="0">
                    <a:noFill/>
                  </a:ln>
                </p:spPr>
              </p:pic>
            </p:oleObj>
          </a:graphicData>
        </a:graphic>
      </p:graphicFrame>
      <p:sp>
        <p:nvSpPr>
          <p:cNvPr id="218"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Rectangle 2"/>
          <p:cNvSpPr/>
          <p:nvPr/>
        </p:nvSpPr>
        <p:spPr>
          <a:xfrm>
            <a:off x="457200" y="205740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might businesses be interested in location-based mobile networking?</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cal developments have set the stage for the growth of Sense Networks and the success of their product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feel that the privacy risks surrounding CitySense are significant? Would you sign up to use Sense Network services? Why or why not?</a:t>
            </a:r>
            <a:endParaRPr b="0" lang="en-US" sz="2000" spc="-1" strike="noStrike">
              <a:solidFill>
                <a:srgbClr val="000000"/>
              </a:solidFill>
              <a:latin typeface="Arial"/>
            </a:endParaRPr>
          </a:p>
        </p:txBody>
      </p:sp>
      <p:sp>
        <p:nvSpPr>
          <p:cNvPr id="220" name="Rectangle 3"/>
          <p:cNvSpPr/>
          <p:nvPr/>
        </p:nvSpPr>
        <p:spPr>
          <a:xfrm>
            <a:off x="343080" y="14479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ality Mining</a:t>
            </a:r>
            <a:endParaRPr b="0" lang="en-US" sz="2400" spc="-1" strike="noStrike">
              <a:solidFill>
                <a:srgbClr val="000000"/>
              </a:solidFill>
              <a:latin typeface="Arial"/>
            </a:endParaRPr>
          </a:p>
        </p:txBody>
      </p:sp>
      <p:sp>
        <p:nvSpPr>
          <p:cNvPr id="221" name="Rectangle 1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2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tic algorith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for finding optimal solution for specific problem by examining very large number of possible solutions for that problem</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ly based on process of evolution</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among solution variables by changing and reorganizing component parts using processes such as inheritance, mutation, and selec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optimization problems (minimization of costs, efficient scheduling, optimal jet engine design) in which hundreds or thousands of variables exist</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evaluate many solution alternatives quickly</a:t>
            </a:r>
            <a:endParaRPr b="0" lang="en-US" sz="2000" spc="-1" strike="noStrike">
              <a:solidFill>
                <a:srgbClr val="000000"/>
              </a:solidFill>
              <a:latin typeface="Arial"/>
            </a:endParaRPr>
          </a:p>
        </p:txBody>
      </p:sp>
      <p:sp>
        <p:nvSpPr>
          <p:cNvPr id="22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2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mponents of a Genetic Algorithm</a:t>
            </a:r>
            <a:endParaRPr b="0" lang="en-US" sz="2400" spc="-1" strike="noStrike">
              <a:solidFill>
                <a:srgbClr val="000000"/>
              </a:solidFill>
              <a:latin typeface="Arial"/>
            </a:endParaRPr>
          </a:p>
        </p:txBody>
      </p:sp>
      <p:sp>
        <p:nvSpPr>
          <p:cNvPr id="227" name="Text Box 3"/>
          <p:cNvSpPr/>
          <p:nvPr/>
        </p:nvSpPr>
        <p:spPr>
          <a:xfrm>
            <a:off x="390780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2</a:t>
            </a:r>
            <a:endParaRPr b="0" lang="en-US" sz="1800" spc="-1" strike="noStrike">
              <a:solidFill>
                <a:srgbClr val="000000"/>
              </a:solidFill>
              <a:latin typeface="Arial"/>
            </a:endParaRPr>
          </a:p>
        </p:txBody>
      </p:sp>
      <p:sp>
        <p:nvSpPr>
          <p:cNvPr id="228" name="Text Box 4"/>
          <p:cNvSpPr/>
          <p:nvPr/>
        </p:nvSpPr>
        <p:spPr>
          <a:xfrm>
            <a:off x="533520" y="579132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example illustrates an initial population of “chromosomes,” each representing a different solution. The genetic algorithm uses an iterative process to refine the initial solutions so that the better ones, those with the higher fitness, are more likely to emerge as the best solution.</a:t>
            </a:r>
            <a:endParaRPr b="0" lang="en-US" sz="900" spc="-1" strike="noStrike">
              <a:solidFill>
                <a:srgbClr val="000000"/>
              </a:solidFill>
              <a:latin typeface="Arial"/>
            </a:endParaRPr>
          </a:p>
        </p:txBody>
      </p:sp>
      <p:sp>
        <p:nvSpPr>
          <p:cNvPr id="229"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3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pic>
        <p:nvPicPr>
          <p:cNvPr id="231" name="Picture 8" descr="Fig-11-12a.tif"/>
          <p:cNvPicPr/>
          <p:nvPr/>
        </p:nvPicPr>
        <p:blipFill>
          <a:blip r:embed="rId2"/>
          <a:stretch/>
        </p:blipFill>
        <p:spPr>
          <a:xfrm>
            <a:off x="914400" y="2286000"/>
            <a:ext cx="7315200" cy="3073320"/>
          </a:xfrm>
          <a:prstGeom prst="rect">
            <a:avLst/>
          </a:prstGeom>
          <a:ln w="0">
            <a:noFill/>
          </a:ln>
        </p:spPr>
      </p:pic>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Rectangle 2"/>
          <p:cNvSpPr/>
          <p:nvPr/>
        </p:nvSpPr>
        <p:spPr>
          <a:xfrm>
            <a:off x="457200" y="1827360"/>
            <a:ext cx="769608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AI systems</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algorithms, fuzzy logic, neural networks, and expert systems integrated into single application to take advantage of best features of each</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Matsushita “neurofuzzy” washing machine that combines fuzzy logic with neural network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3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lligent agent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in background to carry out specific, repetitive, and predictable tasks for user, process, or software applic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limited built-in or learned knowledge base to accomplish tasks or make decisions on user’s behalf</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ing junk e-mail</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cheapest airfar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based modeling </a:t>
            </a:r>
            <a:r>
              <a:rPr b="0" lang="en-US" sz="2000" spc="-1" strike="noStrike">
                <a:solidFill>
                  <a:srgbClr val="000000"/>
                </a:solidFill>
                <a:latin typeface="Arial"/>
              </a:rPr>
              <a:t>applications: </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of autonomous agent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behavior of consumers, stock markets, and supply chains; used to predict spread of epidemics </a:t>
            </a:r>
            <a:endParaRPr b="0" lang="en-US" sz="2000" spc="-1" strike="noStrike">
              <a:solidFill>
                <a:srgbClr val="000000"/>
              </a:solidFill>
              <a:latin typeface="Arial"/>
            </a:endParaRPr>
          </a:p>
        </p:txBody>
      </p:sp>
      <p:sp>
        <p:nvSpPr>
          <p:cNvPr id="23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37"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8" name="Object 8"/>
          <p:cNvGraphicFramePr/>
          <p:nvPr/>
        </p:nvGraphicFramePr>
        <p:xfrm>
          <a:off x="1600200" y="2133720"/>
          <a:ext cx="6742080" cy="4281480"/>
        </p:xfrm>
        <a:graphic>
          <a:graphicData uri="http://schemas.openxmlformats.org/presentationml/2006/ole">
            <p:oleObj r:id="rId2" spid="">
              <p:embed/>
              <p:pic>
                <p:nvPicPr>
                  <p:cNvPr id="239" name="Object 8" descr=""/>
                  <p:cNvPicPr/>
                  <p:nvPr/>
                </p:nvPicPr>
                <p:blipFill>
                  <a:blip r:embed="rId3"/>
                  <a:stretch/>
                </p:blipFill>
                <p:spPr>
                  <a:xfrm>
                    <a:off x="1600200" y="2133720"/>
                    <a:ext cx="6742080" cy="4281480"/>
                  </a:xfrm>
                  <a:prstGeom prst="rect">
                    <a:avLst/>
                  </a:prstGeom>
                  <a:ln w="0">
                    <a:noFill/>
                  </a:ln>
                </p:spPr>
              </p:pic>
            </p:oleObj>
          </a:graphicData>
        </a:graphic>
      </p:graphicFrame>
      <p:sp>
        <p:nvSpPr>
          <p:cNvPr id="2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lligent Agents in P&amp;G’s Supply Chain Network</a:t>
            </a:r>
            <a:endParaRPr b="0" lang="en-US" sz="2400" spc="-1" strike="noStrike">
              <a:solidFill>
                <a:srgbClr val="000000"/>
              </a:solidFill>
              <a:latin typeface="Arial"/>
            </a:endParaRPr>
          </a:p>
        </p:txBody>
      </p:sp>
      <p:sp>
        <p:nvSpPr>
          <p:cNvPr id="241" name="Text Box 3"/>
          <p:cNvSpPr/>
          <p:nvPr/>
        </p:nvSpPr>
        <p:spPr>
          <a:xfrm>
            <a:off x="1800" y="568476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3</a:t>
            </a:r>
            <a:endParaRPr b="0" lang="en-US" sz="1800" spc="-1" strike="noStrike">
              <a:solidFill>
                <a:srgbClr val="000000"/>
              </a:solidFill>
              <a:latin typeface="Arial"/>
            </a:endParaRPr>
          </a:p>
        </p:txBody>
      </p:sp>
      <p:sp>
        <p:nvSpPr>
          <p:cNvPr id="242" name="Text Box 4"/>
          <p:cNvSpPr/>
          <p:nvPr/>
        </p:nvSpPr>
        <p:spPr>
          <a:xfrm>
            <a:off x="0" y="5975280"/>
            <a:ext cx="25146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lligent agents are helping Procter &amp; Gamble shorten the  replenishment cycles for products such as a box of Tide.</a:t>
            </a:r>
            <a:endParaRPr b="0" lang="en-US" sz="900" spc="-1" strike="noStrike">
              <a:solidFill>
                <a:srgbClr val="000000"/>
              </a:solidFill>
              <a:latin typeface="Arial"/>
            </a:endParaRPr>
          </a:p>
        </p:txBody>
      </p:sp>
      <p:sp>
        <p:nvSpPr>
          <p:cNvPr id="24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4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2"/>
          <p:cNvSpPr/>
          <p:nvPr/>
        </p:nvSpPr>
        <p:spPr>
          <a:xfrm>
            <a:off x="457200" y="129528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S. Enterprise Knowledge Manageme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Revenues, 2005-2012</a:t>
            </a:r>
            <a:endParaRPr b="0" lang="en-US" sz="2400" spc="-1" strike="noStrike">
              <a:solidFill>
                <a:srgbClr val="000000"/>
              </a:solidFill>
              <a:latin typeface="Arial"/>
            </a:endParaRPr>
          </a:p>
        </p:txBody>
      </p:sp>
      <p:sp>
        <p:nvSpPr>
          <p:cNvPr id="65" name="Text Box 3"/>
          <p:cNvSpPr/>
          <p:nvPr/>
        </p:nvSpPr>
        <p:spPr>
          <a:xfrm>
            <a:off x="1440" y="48909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6" name="Text Box 4"/>
          <p:cNvSpPr/>
          <p:nvPr/>
        </p:nvSpPr>
        <p:spPr>
          <a:xfrm>
            <a:off x="0" y="5181480"/>
            <a:ext cx="175248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knowledge management software includes sales of content management and portal licenses, which have been growing at a rate of 15 percent annually, making it among the fastest-growing software applications.</a:t>
            </a:r>
            <a:endParaRPr b="0" lang="en-US" sz="900" spc="-1" strike="noStrike">
              <a:solidFill>
                <a:srgbClr val="000000"/>
              </a:solidFill>
              <a:latin typeface="Arial"/>
            </a:endParaRPr>
          </a:p>
        </p:txBody>
      </p:sp>
      <p:sp>
        <p:nvSpPr>
          <p:cNvPr id="67"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68" name="Picture 7" descr="Fig-11-1.tif"/>
          <p:cNvPicPr/>
          <p:nvPr/>
        </p:nvPicPr>
        <p:blipFill>
          <a:blip r:embed="rId2"/>
          <a:stretch/>
        </p:blipFill>
        <p:spPr>
          <a:xfrm>
            <a:off x="1828800" y="2286000"/>
            <a:ext cx="6994440" cy="3886200"/>
          </a:xfrm>
          <a:prstGeom prst="rect">
            <a:avLst/>
          </a:prstGeom>
          <a:ln w="0">
            <a:noFill/>
          </a:ln>
        </p:spPr>
      </p:pic>
      <p:sp>
        <p:nvSpPr>
          <p:cNvPr id="69"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6" name="" descr=""/>
          <p:cNvPicPr/>
          <p:nvPr/>
        </p:nvPicPr>
        <p:blipFill>
          <a:blip r:embed="rId2"/>
          <a:stretch/>
        </p:blipFill>
        <p:spPr>
          <a:xfrm>
            <a:off x="343080" y="971640"/>
            <a:ext cx="8422920" cy="2747880"/>
          </a:xfrm>
          <a:prstGeom prst="rect">
            <a:avLst/>
          </a:prstGeom>
          <a:ln w="9360">
            <a:solidFill>
              <a:srgbClr val="ffffff"/>
            </a:solidFill>
            <a:miter/>
          </a:ln>
        </p:spPr>
      </p:pic>
      <p:sp>
        <p:nvSpPr>
          <p:cNvPr id="24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4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mportant dimensions of knowledge</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is a firm asset</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angibl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ion of knowledge from data, information, requires organizational resourc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it is shared, experiences network effec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has different form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be explicit (documented) or tacit (residing in mind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now-how, craft, skill</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 to follow procedur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ing why things happen (causality)</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7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mportant dimensions of knowledge (cont.)</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has a location</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gnitive ev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oth social and individual</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Sticky” (hard to move), situated (enmeshed in firm’s culture), contextual (works only in certain situation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is situational</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ditional: Knowing when to apply procedur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extual: Knowing circumstances to use certain tool</a:t>
            </a:r>
            <a:endParaRPr b="0" lang="en-US" sz="2000" spc="-1" strike="noStrike">
              <a:solidFill>
                <a:srgbClr val="000000"/>
              </a:solidFill>
              <a:latin typeface="Arial"/>
            </a:endParaRPr>
          </a:p>
        </p:txBody>
      </p:sp>
      <p:sp>
        <p:nvSpPr>
          <p:cNvPr id="7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75"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3"/>
          <p:cNvSpPr/>
          <p:nvPr/>
        </p:nvSpPr>
        <p:spPr>
          <a:xfrm>
            <a:off x="495360" y="152388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ransform information into knowledge, firm must expend additional resources to discover patterns, rules, and contexts where knowledge works</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sdom: </a:t>
            </a:r>
            <a:r>
              <a:rPr b="0" lang="en-US" sz="2000" spc="-1" strike="noStrike">
                <a:solidFill>
                  <a:srgbClr val="000000"/>
                </a:solidFill>
                <a:latin typeface="Arial"/>
              </a:rPr>
              <a:t>Collective and individual experience of applying knowledge to solve problems </a:t>
            </a:r>
            <a:endParaRPr b="0" lang="en-US" sz="2000" spc="-1" strike="noStrike">
              <a:solidFill>
                <a:srgbClr val="000000"/>
              </a:solidFill>
              <a:latin typeface="Arial"/>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where, when, and how to apply knowledge</a:t>
            </a:r>
            <a:endParaRPr b="0" lang="en-US" sz="18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ing how to do things effectively and efficiently in ways other organizations cannot duplicate is primary source of profit and competitive advantage that cannot be purchased easily by competitors</a:t>
            </a:r>
            <a:endParaRPr b="0" lang="en-US" sz="2000" spc="-1" strike="noStrike">
              <a:solidFill>
                <a:srgbClr val="000000"/>
              </a:solidFill>
              <a:latin typeface="Arial"/>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Having a unique build-to-order production system</a:t>
            </a:r>
            <a:endParaRPr b="0" lang="en-US" sz="1800" spc="-1" strike="noStrike">
              <a:solidFill>
                <a:srgbClr val="000000"/>
              </a:solidFill>
              <a:latin typeface="Arial"/>
            </a:endParaRPr>
          </a:p>
        </p:txBody>
      </p:sp>
      <p:sp>
        <p:nvSpPr>
          <p:cNvPr id="7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78"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ganizational learning </a:t>
            </a:r>
            <a:endParaRPr b="0" lang="en-US" sz="2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cess in which organizations learn</a:t>
            </a:r>
            <a:endParaRPr b="0" lang="en-US" sz="24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in experience through collection of data, measurement, trial and error, and feedback</a:t>
            </a:r>
            <a:endParaRPr b="0" lang="en-US" sz="24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just behavior to reflect experience</a:t>
            </a:r>
            <a:endParaRPr b="0" lang="en-US" sz="24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w business processes</a:t>
            </a:r>
            <a:endParaRPr b="0" lang="en-US" sz="20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 patterns of management decision making</a:t>
            </a:r>
            <a:endParaRPr b="0" lang="en-US" sz="2000" spc="-1" strike="noStrike">
              <a:solidFill>
                <a:srgbClr val="000000"/>
              </a:solidFill>
              <a:latin typeface="Arial"/>
            </a:endParaRPr>
          </a:p>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81"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6:16Z</dcterms:modified>
  <cp:revision>573</cp:revision>
  <dc:subject/>
  <dc:title>PowerPoint Presentation</dc:title>
</cp:coreProperties>
</file>