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A9AD-2869-400C-8A2C-B8EE704B5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distribution of computing power across smaller, less expensive machines enabled by client/server computing is in large part responsible for the drastic increase in computing power and applications throughout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ts of Moore’s Law include: the number of transistors on a chip doubles ever 18 months; computing power doubles every 18 months; and the price of computing falls by half every 18 months. Explain to students that even now, this trend is likely to continue, with transistors reaching the sizes of viruses, the smallest form of lif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hat point, if any, do students believe that the doubling trend of Moore’s Law might come to an end? Ask them to speculate and give reasons for their answ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the implications of such drastically reduced costs of computer chips might be in the future? Explain the connection to concepts like the digital divide and cloud comput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used to create transistors of the tiny size previously mentioned. Can students describe any other applications of this type of technology (for example, medic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the exponential growth in hard drive capacity, which is that the world is producing an increasing amount of digital information requiring storage each year as well. Fortunately, the cost of storing that information is decreasing at an even quicker r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is figure displays the number of kilobytes of data that can be stored with one dollar. Point out that the Y axis is greatly compressed to display the doubling effect, and that if it weren’t, the increase from year to year would become increasingly enormou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the implications of Metcalfe’s law to social networks, such as Facebook and MySpace. Do they agree that the more members are using the site, the value of being a member and the usefulness of the site grows?  Do people make “new friends” on a social site or hang out with their existing friends mostl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aware of any friends or family that do not have Internet access? You might ask them to remember ‘life before the Internet’, if possible, to underscore the magnitude of how far communication and computing has come over ti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how close the cost per kilobit has come to 0 since 1995. What implications does this have for the number of people using the Internet? You could once again relate this to the digital divide and emphasize that even now a significant portion of the world lacks access to the Internet and other services, though it has more to do with reasons of insufficient infrastructure than Internet communication costs.  One implication: it costs no more to move a gigabyte from New York to San Francisco than it does to move the same amount of information from the top of a building to the basement.  This means that data no longer needs to be located “close by” the us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familiar with any of the trends in hardware or software platforms? Do they see iPhone for instance as a device, a computing platform, or a just a telephone? They might be familiar with developments like Facebook’s Application platform, where developers can design games and activities for use within Facebook itself. Also recall that cloud computing has been mentioned in earlier chapters, so students should be able to point to that as a contemporary hardware platform tr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today’s enterprise infrastructure and Internet have been like without widespread and universal standards, such as Windows, Microsoft Office, Unix, and Ethernet? (Greatly decreased efficiency and confusion, inability to develop innovative products everyone can use based on a single standard, et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coming slides will go over each component in more detai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ake a look at the example companies that appear under each heading. What companies appear repeatedly? How many items are unfamilia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students an idea of the size of the market for computer hardware, in 2008, 285 million PCs were shipped worldwide with a market value of $253 billion, and in 2009 U.S. firms will spend about $150 billion on computer hardwa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Microsoft’s dominance in operating systems and explain that it is the most important reason for their success to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for enterprise software applications is approximately $250 billion dollars. These applications are considered to be part of IT infrastructure. Traditionally, large firms were the most prominent users of enterprise software, but firms such as Microsoft are trying to move into the untapped market of small- and medium-sized businesses that might benefit from less expansive versions of the same softwa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amount of new information in the world is doubling every three years, driving the need for more efficient data management and storag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spent $210 billion on networking gear and a whopping $850 billion on networking services in 2008. Compare these in size to the previously mentioned figures in computer hardware platforms and enterprise software applications ($150 billion, $250 billion).  This comparison can highlight for the students the extent to which we are living in an era of telecommunications revolution as much as a computer era.   The device in the hand is obvious to people, the communications network in the background is hidde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latforms are yet another area where Microsoft is featured prominently. Students at this point should be able to appreciate the sheer size of the company.  The trend since the late 1990s has been to reduce the number of servers by increasing their size and power. Dell, HP/Compaq, and IBM have been the beneficiaries of this trend.  Multi core processors, and blade servers, are two ways in which server power can be radically increased without increasing the foot print or the power requiremen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ing new infrastructure requires significant changes in business processes and procedures, training and education, and software integration. This is a task that firms struggle to achieve on their own, which drives the need for these services.  The MIS course provides students with an excellent background to be a business systems consultant.  Most business consulting today involves developing business processes and supporting system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computing is increasingly moving from PCs and desktops to mobile devices, and managers are increasingly using these to coordinate work and communicate with employees.  Students may think the iPhone  they own is just a phone, or music player, but for businesses it is along with Blackberries an important management t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s.com was using a collection of technologies that had accumulated over ten years that made expansion impossible. Standardization across one platform (in this case, IBM) was necessary to continue their growth. Are students familiar with Cars.com’s Super Bowl ads, or have they at least heard of the site? Explain that without their updated infrastructure, the company could not have handled the traffic generated by a Super Bowl advertisement.  Cars.com is a site students like to visit in cla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not only is there an environmental concern, but there is also the incentive to reduce costs by developing more efficient and environmentally-friendly methods of powering systems. It is within the ability of almost any firm to take measures to ‘go green’ with thei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is mentioned in the case as an effective way to reduce the total computing resources required to run application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nomic computing and virtualization are both methods of allocating resources more efficiently at the technological level (the previous slide describes technologies with a more organizational focu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plays a major role in the administration of local area networks. Around 20 percent of the server operating system market is owned by Linux. Ask students to give reasons why an open-source operating system might be a better choice for network administrators than alternatives that are not open-source (such as Microsoft’s Windows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is designed to run on any computing device. This includes mobile devices like smartphon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are collections of thousands of computer programs and systems built over many years.  In general, these systems cannot “talk” with one another, and sharing information among them is very expensive.  One way to get to work together is to build software links among them.  This is the Web services approach (see the next slide on service oriented architecture).  You can compare it to the Web: any computer with a browser can access billions of Web pages and draw down the information, or download PDF files that work on all computers that have a version of Adobe acrobat installed.  In a business firm, you want a similar environment:  any computer program can get data from any other computer program.  Web services makes this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are able to explain the difference between XML and HTML (in other words, the additional features XML has compared to HTML). These include classifying, presenting, communicating, and storing data, as opposed to HTML being able to merely present data. These features also allow computers to manipulate documents written in XML automatically. Does this remind students of autonomic comput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s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task Dollar wants to complete (interacting with other companies’ information systems) is represented here as a collection of individual services, in keeping with the SOA model. Dollar wants to be able to quickly and easily share data with other companies – the series of services provided above are combined to accomplish that tas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level agreements are formal contracts between customers and their service providers that define the specific responsibilities of the service provider and the service expected by the customer. These are important to establish communication between the two firms and to manage the project efficiently.  Students should be referred to the SLA Learning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students think that software outsourcing is growing quickly in popularity? Have them point to trends that might back up their claim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ecent jump in SaaS spending within the last several years, and the pronounced rise in the last two or three years. What are the positives and negatives of acquiring software through the SaaS model? Positives: allows companies to focus on business issues rather than technology; for many companies, SaaS could cut costs. Negatives: SaaS increases the firm’s dependency on external suppliers (what happens if your supplied of SaaS services goes into bankruptcy?  What is your backup pla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f the idea of software as a service? Do they expect Salesforce.com to have staying power? How does the Salesforce.com business model fit in with other trends like cloud computing?  This is a great site to visit in class and explore the op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platform” perspective refers to analyzing the actual services enabled by new technology tools. For example, a new PC might save an employee one hour per day in wait time for information, dramatically increasing his value to the fir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nvision some of the pitfalls of working with an external hardware or software vendor such as Google or Salesforce.com. What are some nightmare scenarios that companies must guard against? (The vendor fails to make critical applications available when needed, poor customer service, etc.)</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amifications of insufficient governance at a firm? For example, if a company does not clearly define what departments have the responsibility to make their own IT decisions, what could be the consequences? (Data mismanagement, poor communication, slower response times to cris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companies should opt to rent as opposed to buy software? (Possibly companies with seasonal employees or semi-annual workloads). What differences between the two can students poi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mportant of an impact do competitors’ services and investments affect a firm’s IT services and infrastructure? Is it wise to rely on those factors alone to determine what kind of services your firm prov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how each item affects a firm’s IT services and infrastructure. Do they feel that any one of the six is especially important (or unimporta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O is a way of quantifying some of the hidden costs of hardware. Ask students to make the connection between the TCO of handling software and hardware infrastructure internally as opposed to acquiring it from an outside vendor. Is this an additional incentive to outsourc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illustrate the centrality of IT infrastructure and services to the achievement of firm success.  Ultimately, what the firm delivers to customers, its quality, is a direct function of the power of its infrastructure.  For instance, Amazon is routinely sited as the most popular online shopping site and receives high praise from customers for the quality of its service and speed of execution.  There is a reason for this: Amazon has one of the world’s largest computing infrastructures numbering several hundred thousand processors to provide these serv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the concept of mainframe computers. Explain the difference in size (much larger) and computing capacity (much smaller) from today’s computers to give them a sense of perspective regarding how far the computing industry has gone in 60 years. However, modern-day mainframes (IBM z-Series), are extremely powerful servers used for large Fortune 1000 enterprise networks and corporate Web sites.  The mainframe is not dead in other words and still represents a large revenue stream for IB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understand that the yellow ring connecting the machines in the client-server graphic represents a local area network. Personal computers were stand-alone systems prior to the development of local area network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the use of cloud computing are Google Apps, Google’s suite of software applications that rivals Microsoft’s Office applications at a fraction of the cost, and Salesforce.com’s CRM management software, delivered over the Intern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erprise Internet graphic represents several individual networks linked together into an enterprise-wide network. The cloud computing graph represents several types of technology that are capable of connecting to the Internet and accessing applications and services through a cloud.  There is a Learning Track on cloud computing where students can pursue the topic fur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fld id="{873748A4-3566-411B-82E6-4565CE02922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09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Times New Roman"/>
            </a:endParaRPr>
          </a:p>
        </p:txBody>
      </p:sp>
      <p:sp>
        <p:nvSpPr>
          <p:cNvPr id="5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762120" y="2514600"/>
            <a:ext cx="761976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Century Schoolbook"/>
                <a:ea typeface="Times New Roman"/>
              </a:rPr>
              <a:t>IT Infrastructure and Emerging Technologies</a:t>
            </a:r>
            <a:endParaRPr b="0" lang="en-US" sz="5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Times New Roman"/>
            </a:endParaRPr>
          </a:p>
        </p:txBody>
      </p:sp>
      <p:sp>
        <p:nvSpPr>
          <p:cNvPr id="88"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Times New Roman"/>
            </a:endParaRPr>
          </a:p>
        </p:txBody>
      </p:sp>
      <p:sp>
        <p:nvSpPr>
          <p:cNvPr id="89" name=""/>
          <p:cNvSpPr/>
          <p:nvPr/>
        </p:nvSpPr>
        <p:spPr>
          <a:xfrm>
            <a:off x="1523880" y="5791320"/>
            <a:ext cx="6096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a multitiered client/server network, client requests for service are handled by different levels of servers.</a:t>
            </a:r>
            <a:endParaRPr b="0" lang="en-US" sz="900" spc="-1" strike="noStrike">
              <a:solidFill>
                <a:srgbClr val="000000"/>
              </a:solidFill>
              <a:latin typeface="Times New Roman"/>
            </a:endParaRPr>
          </a:p>
        </p:txBody>
      </p:sp>
      <p:sp>
        <p:nvSpPr>
          <p:cNvPr id="90"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9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92" name=""/>
          <p:cNvGraphicFramePr/>
          <p:nvPr/>
        </p:nvGraphicFramePr>
        <p:xfrm>
          <a:off x="228600" y="2133720"/>
          <a:ext cx="8686800" cy="3555720"/>
        </p:xfrm>
        <a:graphic>
          <a:graphicData uri="http://schemas.openxmlformats.org/presentationml/2006/ole">
            <p:oleObj r:id="rId2" spid="">
              <p:embed/>
              <p:pic>
                <p:nvPicPr>
                  <p:cNvPr id="93" name="" descr=""/>
                  <p:cNvPicPr/>
                  <p:nvPr/>
                </p:nvPicPr>
                <p:blipFill>
                  <a:blip r:embed="rId3"/>
                  <a:stretch/>
                </p:blipFill>
                <p:spPr>
                  <a:xfrm>
                    <a:off x="228600" y="2133720"/>
                    <a:ext cx="8686800" cy="355572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981080" y="129528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95" name=""/>
          <p:cNvSpPr/>
          <p:nvPr/>
        </p:nvSpPr>
        <p:spPr>
          <a:xfrm>
            <a:off x="457200" y="1827360"/>
            <a:ext cx="845820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 drivers of infrastructure evolution</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ore’s law and microprocessing power</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uting power doubles every 18 month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notechnology: May shrink size of transistors to width of several atom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ary factors: Heat dissipation needs, power consumption concerns</a:t>
            </a:r>
            <a:endParaRPr b="0" lang="en-US" sz="20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w of  Mass Digital Storage</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mount of data being stored each year doubles</a:t>
            </a:r>
            <a:endParaRPr b="0" lang="en-US" sz="2000" spc="-1" strike="noStrike">
              <a:solidFill>
                <a:srgbClr val="000000"/>
              </a:solidFill>
              <a:latin typeface="Times New Roman"/>
            </a:endParaRPr>
          </a:p>
        </p:txBody>
      </p:sp>
      <p:sp>
        <p:nvSpPr>
          <p:cNvPr id="9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oore’s Law and Microprocessor Performance</a:t>
            </a:r>
            <a:endParaRPr b="0" lang="en-US" sz="2400" spc="-1" strike="noStrike">
              <a:solidFill>
                <a:srgbClr val="000000"/>
              </a:solidFill>
              <a:latin typeface="Times New Roman"/>
            </a:endParaRPr>
          </a:p>
        </p:txBody>
      </p:sp>
      <p:sp>
        <p:nvSpPr>
          <p:cNvPr id="98"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Times New Roman"/>
            </a:endParaRPr>
          </a:p>
        </p:txBody>
      </p:sp>
      <p:sp>
        <p:nvSpPr>
          <p:cNvPr id="99" name=""/>
          <p:cNvSpPr/>
          <p:nvPr/>
        </p:nvSpPr>
        <p:spPr>
          <a:xfrm>
            <a:off x="1752480" y="5715000"/>
            <a:ext cx="6096240" cy="4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cking more transistors into a tiny microprocessor has exponentially increased processing power.</a:t>
            </a:r>
            <a:endParaRPr b="0" lang="en-US" sz="9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2004 Intel Corporation; updated by the authors.</a:t>
            </a:r>
            <a:endParaRPr b="0" lang="en-US" sz="800" spc="-1" strike="noStrike">
              <a:solidFill>
                <a:srgbClr val="000000"/>
              </a:solidFill>
              <a:latin typeface="Times New Roman"/>
            </a:endParaRPr>
          </a:p>
        </p:txBody>
      </p:sp>
      <p:sp>
        <p:nvSpPr>
          <p:cNvPr id="100"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0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02" name="" descr=""/>
          <p:cNvPicPr/>
          <p:nvPr/>
        </p:nvPicPr>
        <p:blipFill>
          <a:blip r:embed="rId2"/>
          <a:stretch/>
        </p:blipFill>
        <p:spPr>
          <a:xfrm>
            <a:off x="2209680" y="2057400"/>
            <a:ext cx="4800600" cy="36831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alling Cost of Chips</a:t>
            </a:r>
            <a:endParaRPr b="0" lang="en-US" sz="2400" spc="-1" strike="noStrike">
              <a:solidFill>
                <a:srgbClr val="000000"/>
              </a:solidFill>
              <a:latin typeface="Times New Roman"/>
            </a:endParaRPr>
          </a:p>
        </p:txBody>
      </p:sp>
      <p:sp>
        <p:nvSpPr>
          <p:cNvPr id="10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Times New Roman"/>
            </a:endParaRPr>
          </a:p>
        </p:txBody>
      </p:sp>
      <p:sp>
        <p:nvSpPr>
          <p:cNvPr id="105" name=""/>
          <p:cNvSpPr/>
          <p:nvPr/>
        </p:nvSpPr>
        <p:spPr>
          <a:xfrm>
            <a:off x="0" y="426708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tel® processor today can contain as many as 1 billion transistors, run at 3.2 GHz and higher, deliver over 10,000 MIPS, and can be manufactured in high volumes with transistors that cost less than 1/10,000th of a cent. That’s a little less than the cost of one printed character in this book.</a:t>
            </a:r>
            <a:endParaRPr b="0" lang="en-US" sz="900" spc="-1" strike="noStrike">
              <a:solidFill>
                <a:srgbClr val="000000"/>
              </a:solidFill>
              <a:latin typeface="Times New Roman"/>
            </a:endParaRPr>
          </a:p>
        </p:txBody>
      </p:sp>
      <p:sp>
        <p:nvSpPr>
          <p:cNvPr id="106"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0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08" name="" descr=""/>
          <p:cNvPicPr/>
          <p:nvPr/>
        </p:nvPicPr>
        <p:blipFill>
          <a:blip r:embed="rId2"/>
          <a:stretch/>
        </p:blipFill>
        <p:spPr>
          <a:xfrm>
            <a:off x="1828800" y="2057400"/>
            <a:ext cx="5486400" cy="40165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Times New Roman"/>
            </a:endParaRPr>
          </a:p>
        </p:txBody>
      </p:sp>
      <p:sp>
        <p:nvSpPr>
          <p:cNvPr id="110"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Times New Roman"/>
            </a:endParaRPr>
          </a:p>
        </p:txBody>
      </p:sp>
      <p:sp>
        <p:nvSpPr>
          <p:cNvPr id="111" name=""/>
          <p:cNvSpPr/>
          <p:nvPr/>
        </p:nvSpPr>
        <p:spPr>
          <a:xfrm>
            <a:off x="0" y="5124600"/>
            <a:ext cx="2819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notubes are tiny tubes about 10,000 times thinner than a human hair. They consist of rolled up sheets of carbon hexagons. Discovered in 1991 by researchers at NEC, they have the potential uses as minuscule wires or in ultrasmall electronic devices and are very powerful conductors of electrical current.</a:t>
            </a:r>
            <a:endParaRPr b="0" lang="en-US" sz="900" spc="-1" strike="noStrike">
              <a:solidFill>
                <a:srgbClr val="000000"/>
              </a:solidFill>
              <a:latin typeface="Times New Roman"/>
            </a:endParaRPr>
          </a:p>
        </p:txBody>
      </p:sp>
      <p:sp>
        <p:nvSpPr>
          <p:cNvPr id="112"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1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114" name=""/>
          <p:cNvGraphicFramePr/>
          <p:nvPr/>
        </p:nvGraphicFramePr>
        <p:xfrm>
          <a:off x="3352680" y="2057400"/>
          <a:ext cx="2455920" cy="4038480"/>
        </p:xfrm>
        <a:graphic>
          <a:graphicData uri="http://schemas.openxmlformats.org/presentationml/2006/ole">
            <p:oleObj r:id="rId2" spid="">
              <p:embed/>
              <p:pic>
                <p:nvPicPr>
                  <p:cNvPr id="115" name="" descr=""/>
                  <p:cNvPicPr/>
                  <p:nvPr/>
                </p:nvPicPr>
                <p:blipFill>
                  <a:blip r:embed="rId3"/>
                  <a:stretch/>
                </p:blipFill>
                <p:spPr>
                  <a:xfrm>
                    <a:off x="3352680" y="2057400"/>
                    <a:ext cx="2455920" cy="4038480"/>
                  </a:xfrm>
                  <a:prstGeom prst="rect">
                    <a:avLst/>
                  </a:prstGeom>
                  <a:ln w="0">
                    <a:noFill/>
                  </a:ln>
                </p:spPr>
              </p:pic>
            </p:oleObj>
          </a:graphicData>
        </a:graphic>
      </p:graphicFrame>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apacity of Hard Drives Grows Exponentially 1980-2007</a:t>
            </a:r>
            <a:endParaRPr b="0" lang="en-US" sz="2400" spc="-1" strike="noStrike">
              <a:solidFill>
                <a:srgbClr val="000000"/>
              </a:solidFill>
              <a:latin typeface="Times New Roman"/>
            </a:endParaRPr>
          </a:p>
        </p:txBody>
      </p:sp>
      <p:sp>
        <p:nvSpPr>
          <p:cNvPr id="11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Times New Roman"/>
            </a:endParaRPr>
          </a:p>
        </p:txBody>
      </p:sp>
      <p:sp>
        <p:nvSpPr>
          <p:cNvPr id="118" name=""/>
          <p:cNvSpPr/>
          <p:nvPr/>
        </p:nvSpPr>
        <p:spPr>
          <a:xfrm>
            <a:off x="914400" y="571500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1980 to 1990, hard disk drive capacities for PCs grew at the rate of 25 percent annual compound growth, but after 1990, growth accelerated to more than 65 percent each year.</a:t>
            </a:r>
            <a:endParaRPr b="0" lang="en-US" sz="900" spc="-1" strike="noStrike">
              <a:solidFill>
                <a:srgbClr val="000000"/>
              </a:solidFill>
              <a:latin typeface="Times New Roman"/>
            </a:endParaRPr>
          </a:p>
        </p:txBody>
      </p:sp>
      <p:sp>
        <p:nvSpPr>
          <p:cNvPr id="119"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2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21" name="" descr=""/>
          <p:cNvPicPr/>
          <p:nvPr/>
        </p:nvPicPr>
        <p:blipFill>
          <a:blip r:embed="rId2"/>
          <a:stretch/>
        </p:blipFill>
        <p:spPr>
          <a:xfrm>
            <a:off x="457200" y="2590920"/>
            <a:ext cx="8229600" cy="28796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st of Storing Data Declines Exponentially 1950-2010</a:t>
            </a:r>
            <a:endParaRPr b="0" lang="en-US" sz="2400" spc="-1" strike="noStrike">
              <a:solidFill>
                <a:srgbClr val="000000"/>
              </a:solidFill>
              <a:latin typeface="Times New Roman"/>
            </a:endParaRPr>
          </a:p>
        </p:txBody>
      </p:sp>
      <p:sp>
        <p:nvSpPr>
          <p:cNvPr id="123"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Times New Roman"/>
            </a:endParaRPr>
          </a:p>
        </p:txBody>
      </p:sp>
      <p:sp>
        <p:nvSpPr>
          <p:cNvPr id="124" name=""/>
          <p:cNvSpPr/>
          <p:nvPr/>
        </p:nvSpPr>
        <p:spPr>
          <a:xfrm>
            <a:off x="0" y="4876920"/>
            <a:ext cx="16765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ince the first magnetic storage device was used in 1955, the cost of storing a kilobyte of data has fallen exponentially, doubling the amount of digital storage for each dollar expended every 15 months on average.</a:t>
            </a:r>
            <a:endParaRPr b="0" lang="en-US" sz="900" spc="-1" strike="noStrike">
              <a:solidFill>
                <a:srgbClr val="000000"/>
              </a:solidFill>
              <a:latin typeface="Times New Roman"/>
            </a:endParaRPr>
          </a:p>
        </p:txBody>
      </p:sp>
      <p:sp>
        <p:nvSpPr>
          <p:cNvPr id="125"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2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27" name="" descr=""/>
          <p:cNvPicPr/>
          <p:nvPr/>
        </p:nvPicPr>
        <p:blipFill>
          <a:blip r:embed="rId2"/>
          <a:stretch/>
        </p:blipFill>
        <p:spPr>
          <a:xfrm>
            <a:off x="2438280" y="2362320"/>
            <a:ext cx="4319640" cy="37209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29" name=""/>
          <p:cNvSpPr/>
          <p:nvPr/>
        </p:nvSpPr>
        <p:spPr>
          <a:xfrm>
            <a:off x="457200" y="1827360"/>
            <a:ext cx="8458200" cy="442116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 drivers of infrastructure evolution (cont.)</a:t>
            </a:r>
            <a:endParaRPr b="0" lang="en-US" sz="2800" spc="-1" strike="noStrike">
              <a:solidFill>
                <a:srgbClr val="000000"/>
              </a:solidFill>
              <a:latin typeface="Times New Roman"/>
            </a:endParaRPr>
          </a:p>
          <a:p>
            <a:pPr marL="457200" indent="-45720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calfe’s Law and network economics</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or power of a network grows exponentially as a function of the number of network membe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network members increase, more people want to use it (demand for network access increase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lining communication costs and the Internet</a:t>
            </a:r>
            <a:endParaRPr b="0" lang="en-US" sz="28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stimated 1.5 billion people worldwide have Internet access</a:t>
            </a:r>
            <a:endParaRPr b="0" lang="en-US" sz="24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cation costs fall toward a very small number and approach 0, utilization of communication and computing facilities explodes</a:t>
            </a:r>
            <a:endParaRPr b="0" lang="en-US" sz="2400" spc="-1" strike="noStrike">
              <a:solidFill>
                <a:srgbClr val="000000"/>
              </a:solidFill>
              <a:latin typeface="Constant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2"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3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ponential Declines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Communication Costs</a:t>
            </a:r>
            <a:endParaRPr b="0" lang="en-US" sz="2400" spc="-1" strike="noStrike">
              <a:solidFill>
                <a:srgbClr val="000000"/>
              </a:solidFill>
              <a:latin typeface="Times New Roman"/>
            </a:endParaRPr>
          </a:p>
        </p:txBody>
      </p:sp>
      <p:sp>
        <p:nvSpPr>
          <p:cNvPr id="135"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Times New Roman"/>
            </a:endParaRPr>
          </a:p>
        </p:txBody>
      </p:sp>
      <p:sp>
        <p:nvSpPr>
          <p:cNvPr id="136" name=""/>
          <p:cNvSpPr/>
          <p:nvPr/>
        </p:nvSpPr>
        <p:spPr>
          <a:xfrm>
            <a:off x="914400" y="5715000"/>
            <a:ext cx="72388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e reason for the growth in the Internet population is the rapid decline in Internet connection and overall communication costs. The cost per kilobit of Internet access has fallen exponentially since 1995. Digital Subscriber Line (DSL) and cable modems now deliver a kilobit of communication for a retail price of less than 2 cents.</a:t>
            </a:r>
            <a:endParaRPr b="0" lang="en-US" sz="900" spc="-1" strike="noStrike">
              <a:solidFill>
                <a:srgbClr val="000000"/>
              </a:solidFill>
              <a:latin typeface="Times New Roman"/>
            </a:endParaRPr>
          </a:p>
        </p:txBody>
      </p:sp>
      <p:sp>
        <p:nvSpPr>
          <p:cNvPr id="137"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3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39" name="" descr=""/>
          <p:cNvPicPr/>
          <p:nvPr/>
        </p:nvPicPr>
        <p:blipFill>
          <a:blip r:embed="rId2"/>
          <a:stretch/>
        </p:blipFill>
        <p:spPr>
          <a:xfrm>
            <a:off x="1219320" y="2438280"/>
            <a:ext cx="6781680" cy="327672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971800" y="121932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5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ine IT infrastructure and describe its component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and describe the stages and technology drivers of IT infrastructure evolution.</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contemporary computer hardware platform trend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contemporary software platform trend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challenges of managing IT infrastructure and management solutions.</a:t>
            </a:r>
            <a:endParaRPr b="0" lang="en-US" sz="22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41" name=""/>
          <p:cNvSpPr/>
          <p:nvPr/>
        </p:nvSpPr>
        <p:spPr>
          <a:xfrm>
            <a:off x="457200" y="1827360"/>
            <a:ext cx="845820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 drivers of infrastructure evolution (cont.)</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and network effects</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standards:</a:t>
            </a:r>
            <a:endParaRPr b="0" lang="en-US" sz="2000" spc="-1" strike="noStrike">
              <a:solidFill>
                <a:srgbClr val="000000"/>
              </a:solidFill>
              <a:latin typeface="Times New Roman"/>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that establish the compatibility of products and the ability to communicate in a network</a:t>
            </a:r>
            <a:endParaRPr b="0" lang="en-US" sz="1800" spc="-1" strike="noStrike">
              <a:solidFill>
                <a:srgbClr val="000000"/>
              </a:solidFill>
              <a:latin typeface="Times New Roman"/>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ash powerful economies of scale and result in price declines as manufacturers focus on the products built to a single standard</a:t>
            </a:r>
            <a:endParaRPr b="0" lang="en-US" sz="1800" spc="-1" strike="noStrike">
              <a:solidFill>
                <a:srgbClr val="000000"/>
              </a:solidFill>
              <a:latin typeface="Times New Roman"/>
            </a:endParaRPr>
          </a:p>
        </p:txBody>
      </p:sp>
      <p:sp>
        <p:nvSpPr>
          <p:cNvPr id="14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4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T Infrastructure has 7 main component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hardware platforms </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 platfor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software application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and storag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telecommunications platfor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platfor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ing system integration services</a:t>
            </a:r>
            <a:endParaRPr b="0" lang="en-US" sz="2400" spc="-1" strike="noStrike">
              <a:solidFill>
                <a:srgbClr val="000000"/>
              </a:solidFill>
              <a:latin typeface="Times New Roman"/>
            </a:endParaRPr>
          </a:p>
        </p:txBody>
      </p:sp>
      <p:sp>
        <p:nvSpPr>
          <p:cNvPr id="14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T Infrastructure Ecosystem</a:t>
            </a:r>
            <a:endParaRPr b="0" lang="en-US" sz="2400" spc="-1" strike="noStrike">
              <a:solidFill>
                <a:srgbClr val="000000"/>
              </a:solidFill>
              <a:latin typeface="Times New Roman"/>
            </a:endParaRPr>
          </a:p>
        </p:txBody>
      </p:sp>
      <p:sp>
        <p:nvSpPr>
          <p:cNvPr id="147"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Times New Roman"/>
            </a:endParaRPr>
          </a:p>
        </p:txBody>
      </p:sp>
      <p:sp>
        <p:nvSpPr>
          <p:cNvPr id="148" name=""/>
          <p:cNvSpPr/>
          <p:nvPr/>
        </p:nvSpPr>
        <p:spPr>
          <a:xfrm>
            <a:off x="0" y="52164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seven major components that must be coordinated to provide the firm with a coherent IT infrastructure. Listed here are major technologies and suppliers for each component.</a:t>
            </a:r>
            <a:endParaRPr b="0" lang="en-US" sz="900" spc="-1" strike="noStrike">
              <a:solidFill>
                <a:srgbClr val="000000"/>
              </a:solidFill>
              <a:latin typeface="Times New Roman"/>
            </a:endParaRPr>
          </a:p>
        </p:txBody>
      </p:sp>
      <p:sp>
        <p:nvSpPr>
          <p:cNvPr id="14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150"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graphicFrame>
        <p:nvGraphicFramePr>
          <p:cNvPr id="151" name=""/>
          <p:cNvGraphicFramePr/>
          <p:nvPr/>
        </p:nvGraphicFramePr>
        <p:xfrm>
          <a:off x="2057400" y="2103480"/>
          <a:ext cx="5029200" cy="3916440"/>
        </p:xfrm>
        <a:graphic>
          <a:graphicData uri="http://schemas.openxmlformats.org/presentationml/2006/ole">
            <p:oleObj r:id="rId2" spid="">
              <p:embed/>
              <p:pic>
                <p:nvPicPr>
                  <p:cNvPr id="152" name="" descr=""/>
                  <p:cNvPicPr/>
                  <p:nvPr/>
                </p:nvPicPr>
                <p:blipFill>
                  <a:blip r:embed="rId3"/>
                  <a:stretch/>
                </p:blipFill>
                <p:spPr>
                  <a:xfrm>
                    <a:off x="2057400" y="2103480"/>
                    <a:ext cx="5029200" cy="3916440"/>
                  </a:xfrm>
                  <a:prstGeom prst="rect">
                    <a:avLst/>
                  </a:prstGeom>
                  <a:ln w="0">
                    <a:noFill/>
                  </a:ln>
                </p:spPr>
              </p:pic>
            </p:oleObj>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5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puter hardware platform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machine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PCs, mobile computing devices – PDAs, laptop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s </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e servers: ultrathin computers stored in rack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frame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mainframe equivalent to thousands of blade serv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chip producers: AMD, Intel, IBM</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firms: IBM, HP, Dell, Sun Microsystem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57"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perating system platform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level: 95% run Microsoft Windows (XP, 2000, CE, etc.)</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level: 85% run Unix or Linux</a:t>
            </a:r>
            <a:endParaRPr b="0" lang="en-US" sz="20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oftware application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oftware application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application providers: SAP and Oracle</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providers: BEA</a:t>
            </a:r>
            <a:endParaRPr b="0" lang="en-US" sz="2000" spc="-1" strike="noStrike">
              <a:solidFill>
                <a:srgbClr val="000000"/>
              </a:solidFill>
              <a:latin typeface="Times New Roman"/>
            </a:endParaRPr>
          </a:p>
        </p:txBody>
      </p:sp>
      <p:sp>
        <p:nvSpPr>
          <p:cNvPr id="15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0"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management and storage</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base software: IBM (DB2), Oracle, Microsoft (SQL Server), Sybase (Adaptive Server Enterprise), MySQL</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data storage: EMC Corp (large-scale systems), Seagate, Maxtor, Western Digital</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orage area networks: connect multiple storage devices on dedicated network</a:t>
            </a:r>
            <a:endParaRPr b="0" lang="en-US" sz="2400" spc="-1" strike="noStrike">
              <a:solidFill>
                <a:srgbClr val="000000"/>
              </a:solidFill>
              <a:latin typeface="Times New Roman"/>
            </a:endParaRPr>
          </a:p>
        </p:txBody>
      </p:sp>
      <p:sp>
        <p:nvSpPr>
          <p:cNvPr id="16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3"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tworking/telecommunications platform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lecommunication service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lecommunications, cable, telephone company charges for voice lines and Internet acces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amp;T, Verizon</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operating system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ndows Server, Novell, Linux, Unix</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hardware providers: Cisco, Lucent, Nortel, Juniper Network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ternet platform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rdware, software, management services to support company Web sites, (including Web hosting services) intranets, extranet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 hardware server market: Dell, HP/Compaq, IBM</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b development tools/suites: Microsoft  (FrontPage, .NET) IBM (WebSphere) Sun (Java), independent software developers: Macromedia/Adobe, RealMedia</a:t>
            </a:r>
            <a:endParaRPr b="0" lang="en-US" sz="2400" spc="-1" strike="noStrike">
              <a:solidFill>
                <a:srgbClr val="000000"/>
              </a:solidFill>
              <a:latin typeface="Times New Roman"/>
            </a:endParaRPr>
          </a:p>
        </p:txBody>
      </p:sp>
      <p:sp>
        <p:nvSpPr>
          <p:cNvPr id="1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nsulting and system integration service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ven large firms do not have resources for full range of support for new, complex infrastructur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integration: ensuring new infrastructure works with legacy syste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gacy systems: older TPS created for mainframes that would be too costly to replace or redesign</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nture, IBM Global Services, EDS, Infosys, Wipro</a:t>
            </a:r>
            <a:endParaRPr b="0" lang="en-US" sz="2400" spc="-1" strike="noStrike">
              <a:solidFill>
                <a:srgbClr val="000000"/>
              </a:solidFill>
              <a:latin typeface="Times New Roman"/>
            </a:endParaRPr>
          </a:p>
          <a:p>
            <a:pPr lvl="2" marL="1085760" indent="-228600">
              <a:lnSpc>
                <a:spcPct val="100000"/>
              </a:lnSpc>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72" name=""/>
          <p:cNvSpPr/>
          <p:nvPr/>
        </p:nvSpPr>
        <p:spPr>
          <a:xfrm>
            <a:off x="38088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ile cost of computing is lower, infrastructure costs have expanded</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computing, more sophisticated computing, increased consumer expectations, need for security</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merging mobile digital platform</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ell phones, smartphones (BlackBerry, iPhone) have assumed data transmission, Web surfing, e-mail and IM dutie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books: small, low-cost lightweight notebooks optimized for wireless communication and core computing tasks</a:t>
            </a:r>
            <a:endParaRPr b="0" lang="en-US" sz="2000" spc="-1" strike="noStrike">
              <a:solidFill>
                <a:srgbClr val="000000"/>
              </a:solidFill>
              <a:latin typeface="Times New Roman"/>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62120" y="126360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Times New Roman"/>
            </a:endParaRPr>
          </a:p>
        </p:txBody>
      </p:sp>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ggressive growth plans hampered by outdated technology.</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9f0f10"/>
                </a:solidFill>
                <a:latin typeface="Arial"/>
              </a:rPr>
              <a:t>Replaced entire IT infrastructure</a:t>
            </a:r>
            <a:r>
              <a:rPr b="1" lang="en-US" sz="2200" spc="-1" strike="noStrike">
                <a:solidFill>
                  <a:srgbClr val="000000"/>
                </a:solidFill>
                <a:latin typeface="Arial"/>
              </a:rPr>
              <a:t> to allow the company to keep pace with its quick expansion.</a:t>
            </a:r>
            <a:endParaRPr b="0" lang="en-US" sz="2200" spc="-1" strike="noStrike">
              <a:solidFill>
                <a:srgbClr val="000000"/>
              </a:solidFill>
              <a:latin typeface="Constantia"/>
            </a:endParaRPr>
          </a:p>
          <a:p>
            <a:pPr marL="343080" indent="-343080">
              <a:lnSpc>
                <a:spcPct val="11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IBM’s WebSphere application server</a:t>
            </a:r>
            <a:r>
              <a:rPr b="1" lang="en-US" sz="2200" spc="-1" strike="noStrike">
                <a:solidFill>
                  <a:srgbClr val="000000"/>
                </a:solidFill>
                <a:latin typeface="Arial"/>
              </a:rPr>
              <a:t> and Rational software led to reduced costs and increased productivity.</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fostering the growth of a business. </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IT infrastructure’s importance to a developing company.</a:t>
            </a:r>
            <a:endParaRPr b="0" lang="en-US" sz="2200" spc="-1" strike="noStrike">
              <a:solidFill>
                <a:srgbClr val="000000"/>
              </a:solidFill>
              <a:latin typeface="Constanti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7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id comput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s geographically remote computers into a single network to combine processing power and create virtual supercomputer</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st savings, speed, agilit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 computing (utility comput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ermanently stored in remote servers, accessed and updated over the Internet by us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 using cloud computing need only pay for the computing power they actually use (on-demand or utility computing)</a:t>
            </a:r>
            <a:endParaRPr b="0" lang="en-US" sz="2000" spc="-1" strike="noStrike">
              <a:solidFill>
                <a:srgbClr val="000000"/>
              </a:solidFill>
              <a:latin typeface="Times New Roman"/>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45720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and social problems does data center power consumption cause?</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olutions are available for these problems? Which are the most environment-friendly?</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business benefits and costs of these solution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ould all firms move toward green computing? Why or why not?</a:t>
            </a:r>
            <a:endParaRPr b="0" lang="en-US" sz="2000" spc="-1" strike="noStrike">
              <a:solidFill>
                <a:srgbClr val="000000"/>
              </a:solidFill>
              <a:latin typeface="Times New Roman"/>
            </a:endParaRPr>
          </a:p>
        </p:txBody>
      </p:sp>
      <p:sp>
        <p:nvSpPr>
          <p:cNvPr id="178"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ing Goes Green</a:t>
            </a:r>
            <a:endParaRPr b="0" lang="en-US" sz="2400" spc="-1" strike="noStrike">
              <a:solidFill>
                <a:srgbClr val="000000"/>
              </a:solidFill>
              <a:latin typeface="Times New Roman"/>
            </a:endParaRPr>
          </a:p>
        </p:txBody>
      </p:sp>
      <p:sp>
        <p:nvSpPr>
          <p:cNvPr id="179" name=""/>
          <p:cNvSpPr/>
          <p:nvPr/>
        </p:nvSpPr>
        <p:spPr>
          <a:xfrm>
            <a:off x="1981080" y="1219320"/>
            <a:ext cx="556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8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82" name=""/>
          <p:cNvSpPr/>
          <p:nvPr/>
        </p:nvSpPr>
        <p:spPr>
          <a:xfrm>
            <a:off x="228600" y="1600200"/>
            <a:ext cx="86868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nomic comput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wide effort to develop systems that can configure, optimize themselves, heal themselves when broken, and protect themselves from outside intrud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to self-updating antivirus software; Apple and Microsoft both use automatic updates</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and multicore processor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ization: presents computing resources so that they can be accessed in ways that are not restricted by configuration</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operating systems to run on one machine; increases server utilization rates from 10-15 to 70 percent of capacit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ore processors: reduced power requirements, enhanced performance</a:t>
            </a:r>
            <a:endParaRPr b="0" lang="en-US" sz="2000" spc="-1" strike="noStrike">
              <a:solidFill>
                <a:srgbClr val="000000"/>
              </a:solidFill>
              <a:latin typeface="Times New Roman"/>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9810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
        <p:nvSpPr>
          <p:cNvPr id="185" name=""/>
          <p:cNvSpPr/>
          <p:nvPr/>
        </p:nvSpPr>
        <p:spPr>
          <a:xfrm>
            <a:off x="457200" y="160020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ux and open-source software</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en-source software: Produced by community of programmers, free and modifiable by user</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nux: Open-source software OS</a:t>
            </a:r>
            <a:endParaRPr b="0" lang="en-US" sz="2000" spc="-1" strike="noStrike">
              <a:solidFill>
                <a:srgbClr val="000000"/>
              </a:solidFill>
              <a:latin typeface="Times New Roman"/>
            </a:endParaRPr>
          </a:p>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oriented programming language (Sun Microsystems)</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erating system, processor-independent (Java Virtual Machine)</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ading programming environment for Web</a:t>
            </a:r>
            <a:endParaRPr b="0" lang="en-US" sz="2000" spc="-1" strike="noStrike">
              <a:solidFill>
                <a:srgbClr val="000000"/>
              </a:solidFill>
              <a:latin typeface="Times New Roman"/>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ets, E-commerce applications</a:t>
            </a:r>
            <a:endParaRPr b="0" lang="en-US" sz="2000" spc="-1" strike="noStrike">
              <a:solidFill>
                <a:srgbClr val="000000"/>
              </a:solidFill>
              <a:latin typeface="Times New Roman"/>
            </a:endParaRPr>
          </a:p>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jax</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ynchronous JavaScript and XML</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s client and server to exchange small pieces of data without requiring the page to be reloaded</a:t>
            </a:r>
            <a:endParaRPr b="0" lang="en-US" sz="2000" spc="-1" strike="noStrike">
              <a:solidFill>
                <a:srgbClr val="000000"/>
              </a:solidFill>
              <a:latin typeface="Times New Roman"/>
            </a:endParaRPr>
          </a:p>
        </p:txBody>
      </p:sp>
      <p:sp>
        <p:nvSpPr>
          <p:cNvPr id="18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ftware Platform Trends and Emerging Technologies</a:t>
            </a:r>
            <a:endParaRPr b="0" lang="en-US" sz="1600" spc="-1" strike="noStrike">
              <a:solidFill>
                <a:srgbClr val="000000"/>
              </a:solidFill>
              <a:latin typeface="Times New Roman"/>
            </a:endParaRPr>
          </a:p>
        </p:txBody>
      </p:sp>
      <p:sp>
        <p:nvSpPr>
          <p:cNvPr id="188"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components that exchange information using Web standards and languages</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ML</a:t>
            </a:r>
            <a:r>
              <a:rPr b="0" lang="en-US" sz="2000" spc="-1" strike="noStrike">
                <a:solidFill>
                  <a:srgbClr val="000000"/>
                </a:solidFill>
                <a:latin typeface="Arial"/>
                <a:ea typeface="Times New Roman"/>
              </a:rPr>
              <a:t>: Extensible Markup Language</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e powerful and flexible than HTML</a:t>
            </a:r>
            <a:endParaRPr b="0" lang="en-US" sz="18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gging allows computers to process data automatically</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AP</a:t>
            </a:r>
            <a:r>
              <a:rPr b="0" lang="en-US" sz="2000" spc="-1" strike="noStrike">
                <a:solidFill>
                  <a:srgbClr val="000000"/>
                </a:solidFill>
                <a:latin typeface="Arial"/>
                <a:ea typeface="Times New Roman"/>
              </a:rPr>
              <a:t>: Simple Object Access Protocol</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ules for structuring messages enabling applications to pass data and instructions</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SDL</a:t>
            </a:r>
            <a:r>
              <a:rPr b="0" lang="en-US" sz="2000" spc="-1" strike="noStrike">
                <a:solidFill>
                  <a:srgbClr val="000000"/>
                </a:solidFill>
                <a:latin typeface="Arial"/>
                <a:ea typeface="Times New Roman"/>
              </a:rPr>
              <a:t>: Web Services Description Language</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amework for describing Web service and capabilities</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DDI</a:t>
            </a:r>
            <a:r>
              <a:rPr b="0" lang="en-US" sz="2000" spc="-1" strike="noStrike">
                <a:solidFill>
                  <a:srgbClr val="000000"/>
                </a:solidFill>
                <a:latin typeface="Arial"/>
                <a:ea typeface="Times New Roman"/>
              </a:rPr>
              <a:t>: Universal Description, Discovery, and Integration</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rectory for locating Web services</a:t>
            </a:r>
            <a:endParaRPr b="0" lang="en-US" sz="1800" spc="-1" strike="noStrike">
              <a:solidFill>
                <a:srgbClr val="000000"/>
              </a:solidFill>
              <a:latin typeface="Times New Roman"/>
            </a:endParaRPr>
          </a:p>
          <a:p>
            <a:pPr lvl="1" marL="743040" indent="-285840">
              <a:lnSpc>
                <a:spcPct val="100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
        <p:nvSpPr>
          <p:cNvPr id="191"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A: Service-oriented architecture</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t of self-contained services that communicate with each other to create a working software application</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developers reuse these services in other combinations to assemble other applications as needed</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n “invoice service” to serve whole firm for calculating and sending printed invoices</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llar Rent A Car</a:t>
            </a:r>
            <a:endParaRPr b="0" lang="en-US" sz="2000" spc="-1" strike="noStrike">
              <a:solidFill>
                <a:srgbClr val="000000"/>
              </a:solidFill>
              <a:latin typeface="Times New Roman"/>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Web services to link online booking system with Southwest Airlines’ Web site</a:t>
            </a:r>
            <a:endParaRPr b="0" lang="en-US" sz="2000" spc="-1" strike="noStrike">
              <a:solidFill>
                <a:srgbClr val="000000"/>
              </a:solidFill>
              <a:latin typeface="Times New Roman"/>
            </a:endParaRPr>
          </a:p>
        </p:txBody>
      </p:sp>
      <p:sp>
        <p:nvSpPr>
          <p:cNvPr id="19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 a Car Uses Web Services</a:t>
            </a:r>
            <a:endParaRPr b="0" lang="en-US" sz="2400" spc="-1" strike="noStrike">
              <a:solidFill>
                <a:srgbClr val="000000"/>
              </a:solidFill>
              <a:latin typeface="Times New Roman"/>
            </a:endParaRPr>
          </a:p>
        </p:txBody>
      </p:sp>
      <p:sp>
        <p:nvSpPr>
          <p:cNvPr id="194"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Times New Roman"/>
            </a:endParaRPr>
          </a:p>
        </p:txBody>
      </p:sp>
      <p:sp>
        <p:nvSpPr>
          <p:cNvPr id="195" name=""/>
          <p:cNvSpPr/>
          <p:nvPr/>
        </p:nvSpPr>
        <p:spPr>
          <a:xfrm>
            <a:off x="0" y="472428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llar Rent A Car uses Web services to provide a standard intermediate layer of software to “talk” to other companies’ information systems. Dollar Rent A Car can use this set of Web services to link to other companies’ information systems without having to build a separate link to each firm’s systems.</a:t>
            </a:r>
            <a:endParaRPr b="0" lang="en-US" sz="900" spc="-1" strike="noStrike">
              <a:solidFill>
                <a:srgbClr val="000000"/>
              </a:solidFill>
              <a:latin typeface="Times New Roman"/>
            </a:endParaRPr>
          </a:p>
        </p:txBody>
      </p:sp>
      <p:sp>
        <p:nvSpPr>
          <p:cNvPr id="19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197" name=""/>
          <p:cNvGraphicFramePr/>
          <p:nvPr/>
        </p:nvGraphicFramePr>
        <p:xfrm>
          <a:off x="2577960" y="2286000"/>
          <a:ext cx="5803920" cy="3886200"/>
        </p:xfrm>
        <a:graphic>
          <a:graphicData uri="http://schemas.openxmlformats.org/presentationml/2006/ole">
            <p:oleObj r:id="rId2" spid="">
              <p:embed/>
              <p:pic>
                <p:nvPicPr>
                  <p:cNvPr id="198" name="" descr=""/>
                  <p:cNvPicPr/>
                  <p:nvPr/>
                </p:nvPicPr>
                <p:blipFill>
                  <a:blip r:embed="rId3"/>
                  <a:stretch/>
                </p:blipFill>
                <p:spPr>
                  <a:xfrm>
                    <a:off x="2577960" y="2286000"/>
                    <a:ext cx="5803920" cy="3886200"/>
                  </a:xfrm>
                  <a:prstGeom prst="rect">
                    <a:avLst/>
                  </a:prstGeom>
                  <a:ln w="0">
                    <a:noFill/>
                  </a:ln>
                </p:spPr>
              </p:pic>
            </p:oleObj>
          </a:graphicData>
        </a:graphic>
      </p:graphicFrame>
      <p:sp>
        <p:nvSpPr>
          <p:cNvPr id="199"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shups and widget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shups: Combinations of two or more online applications, such as combining</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mapping software (Google Maps) with local content</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dgets: small programs that can be added to Web pages or placed on the desktop to add additional functionality</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outsourc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sources: external commercial vendor, online service providers, offshore firm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packages: prewitten set of software available commerciall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as a service (SaaS): software delivered over the Internet</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hore outsourcing: usually governed by service level agreement</a:t>
            </a:r>
            <a:endParaRPr b="0" lang="en-US" sz="2000" spc="-1" strike="noStrike">
              <a:solidFill>
                <a:srgbClr val="000000"/>
              </a:solidFill>
              <a:latin typeface="Times New Roman"/>
            </a:endParaRPr>
          </a:p>
          <a:p>
            <a:pPr marL="3430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202"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hanging Sources of Software</a:t>
            </a:r>
            <a:endParaRPr b="0" lang="en-US" sz="2400" spc="-1" strike="noStrike">
              <a:solidFill>
                <a:srgbClr val="000000"/>
              </a:solidFill>
              <a:latin typeface="Times New Roman"/>
            </a:endParaRPr>
          </a:p>
        </p:txBody>
      </p:sp>
      <p:sp>
        <p:nvSpPr>
          <p:cNvPr id="204"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Times New Roman"/>
            </a:endParaRPr>
          </a:p>
        </p:txBody>
      </p:sp>
      <p:sp>
        <p:nvSpPr>
          <p:cNvPr id="205" name=""/>
          <p:cNvSpPr/>
          <p:nvPr/>
        </p:nvSpPr>
        <p:spPr>
          <a:xfrm>
            <a:off x="0" y="4572000"/>
            <a:ext cx="167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 firms currently spend about $250 billion each year on software. In 2008, about 40 percent of that software will originate outside the firm, either from enterprise software vendors selling firmwide applications or individual application service providers selling software modules.</a:t>
            </a:r>
            <a:endParaRPr b="0" lang="en-US" sz="900" spc="-1" strike="noStrike">
              <a:solidFill>
                <a:srgbClr val="000000"/>
              </a:solidFill>
              <a:latin typeface="Times New Roman"/>
            </a:endParaRPr>
          </a:p>
        </p:txBody>
      </p:sp>
      <p:sp>
        <p:nvSpPr>
          <p:cNvPr id="20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207" name="" descr=""/>
          <p:cNvPicPr/>
          <p:nvPr/>
        </p:nvPicPr>
        <p:blipFill>
          <a:blip r:embed="rId2"/>
          <a:stretch/>
        </p:blipFill>
        <p:spPr>
          <a:xfrm>
            <a:off x="2209680" y="2286000"/>
            <a:ext cx="4714920" cy="3584520"/>
          </a:xfrm>
          <a:prstGeom prst="rect">
            <a:avLst/>
          </a:prstGeom>
          <a:ln w="0">
            <a:noFill/>
          </a:ln>
        </p:spPr>
      </p:pic>
      <p:sp>
        <p:nvSpPr>
          <p:cNvPr id="208"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45720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advantages and disadvantages of the software-as-a-service model?</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some of the challenges facing Salesforce as it continues its growth? How well will it be able to meet those challenge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s of businesses could benefit from switching to Salesforce and why?</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factors would you take into account in deciding whether to use Salesforce.com for your business?</a:t>
            </a:r>
            <a:endParaRPr b="0" lang="en-US" sz="2000" spc="-1" strike="noStrike">
              <a:solidFill>
                <a:srgbClr val="000000"/>
              </a:solidFill>
              <a:latin typeface="Times New Roman"/>
            </a:endParaRPr>
          </a:p>
        </p:txBody>
      </p:sp>
      <p:sp>
        <p:nvSpPr>
          <p:cNvPr id="210"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lesforce.com: Software-as-a-Service Goes Mainstream</a:t>
            </a:r>
            <a:endParaRPr b="0" lang="en-US" sz="2400" spc="-1" strike="noStrike">
              <a:solidFill>
                <a:srgbClr val="000000"/>
              </a:solidFill>
              <a:latin typeface="Times New Roman"/>
            </a:endParaRPr>
          </a:p>
        </p:txBody>
      </p:sp>
      <p:sp>
        <p:nvSpPr>
          <p:cNvPr id="21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212"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133720" y="129528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61"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fining IT infrastructure:</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of physical devices and software required to operate enterprise</a:t>
            </a:r>
            <a:endParaRPr b="0" lang="en-US" sz="2000" spc="-1" strike="noStrike">
              <a:solidFill>
                <a:srgbClr val="000000"/>
              </a:solidFill>
              <a:latin typeface="Times New Roman"/>
            </a:endParaRPr>
          </a:p>
          <a:p>
            <a:pPr lvl="1" marL="743040" indent="-28584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of firmwide services including:</a:t>
            </a:r>
            <a:endParaRPr b="0" lang="en-US" sz="20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ing platforms providing computing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s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anagement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oftware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facilities management services</a:t>
            </a:r>
            <a:endParaRPr b="0" lang="en-US" sz="1800" spc="-1" strike="noStrike">
              <a:solidFill>
                <a:srgbClr val="000000"/>
              </a:solidFill>
              <a:latin typeface="Times New Roman"/>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nagement, standards, education, research and development services</a:t>
            </a:r>
            <a:endParaRPr b="0" lang="en-US" sz="1800" spc="-1" strike="noStrike">
              <a:solidFill>
                <a:srgbClr val="000000"/>
              </a:solidFill>
              <a:latin typeface="Times New Roman"/>
            </a:endParaRPr>
          </a:p>
          <a:p>
            <a:pPr lvl="1" marL="743040" indent="-28584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ervice platform” perspective more accurate view of value of investments</a:t>
            </a:r>
            <a:endParaRPr b="0" lang="en-US" sz="2000" spc="-1" strike="noStrike">
              <a:solidFill>
                <a:srgbClr val="000000"/>
              </a:solidFill>
              <a:latin typeface="Times New Roman"/>
            </a:endParaRPr>
          </a:p>
        </p:txBody>
      </p:sp>
      <p:sp>
        <p:nvSpPr>
          <p:cNvPr id="6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14"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aling with platform and infrastructure change</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firms shrink or grow, IT needs to be flexible and scalable</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does firm remain flexible and still make long term investments? </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calability: Ability to expand to serve larger number of us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ms using mobile computing and cloud computing require new policies and procedures for managing these new platform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actual agreements with firms running clouds and distributing software required</a:t>
            </a:r>
            <a:endParaRPr b="0" lang="en-US" sz="2000" spc="-1" strike="noStrike">
              <a:solidFill>
                <a:srgbClr val="000000"/>
              </a:solidFill>
              <a:latin typeface="Times New Roman"/>
            </a:endParaRPr>
          </a:p>
        </p:txBody>
      </p:sp>
      <p:sp>
        <p:nvSpPr>
          <p:cNvPr id="21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and governance</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controls IT infrastructure</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decentralized</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costs allocated between divisions, departments?</a:t>
            </a:r>
            <a:endParaRPr b="0" lang="en-US" sz="2800" spc="-1" strike="noStrike">
              <a:solidFill>
                <a:srgbClr val="000000"/>
              </a:solidFill>
              <a:latin typeface="Constanti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7"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1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20"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king wise infrastructure investments</a:t>
            </a:r>
            <a:endParaRPr b="0" lang="en-US" sz="28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ount to spend on IT is complex question</a:t>
            </a:r>
            <a:endParaRPr b="0" lang="en-US" sz="2400" spc="-1" strike="noStrike">
              <a:solidFill>
                <a:srgbClr val="000000"/>
              </a:solidFill>
              <a:latin typeface="Times New Roman"/>
            </a:endParaRPr>
          </a:p>
          <a:p>
            <a:pPr lvl="2" marL="1085760" indent="-228600">
              <a:lnSpc>
                <a:spcPct val="100000"/>
              </a:lnSpc>
              <a:spcBef>
                <a:spcPts val="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nt vs. buy, outsourcing</a:t>
            </a:r>
            <a:endParaRPr b="0" lang="en-US" sz="2000" spc="-1" strike="noStrike">
              <a:solidFill>
                <a:srgbClr val="000000"/>
              </a:solidFill>
              <a:latin typeface="Times New Roman"/>
            </a:endParaRPr>
          </a:p>
          <a:p>
            <a:pPr marL="343080" indent="-34308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petitive forces model for IT infrastructure investment</a:t>
            </a:r>
            <a:endParaRPr b="0" lang="en-US" sz="28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rket demand for firm’s service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rm’s business strategy</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rm’s IT strategy, infrastructure, and cost</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ation technology assessment</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etitor firm service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etitor firm IT infrastructure investments</a:t>
            </a:r>
            <a:endParaRPr b="0" lang="en-US" sz="2400" spc="-1" strike="noStrike">
              <a:solidFill>
                <a:srgbClr val="000000"/>
              </a:solidFill>
              <a:latin typeface="Times New Roman"/>
            </a:endParaRPr>
          </a:p>
        </p:txBody>
      </p:sp>
      <p:sp>
        <p:nvSpPr>
          <p:cNvPr id="22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Forces Model for IT Infrastructure</a:t>
            </a:r>
            <a:endParaRPr b="0" lang="en-US" sz="2400" spc="-1" strike="noStrike">
              <a:solidFill>
                <a:srgbClr val="000000"/>
              </a:solidFill>
              <a:latin typeface="Times New Roman"/>
            </a:endParaRPr>
          </a:p>
        </p:txBody>
      </p:sp>
      <p:sp>
        <p:nvSpPr>
          <p:cNvPr id="223"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Times New Roman"/>
            </a:endParaRPr>
          </a:p>
        </p:txBody>
      </p:sp>
      <p:sp>
        <p:nvSpPr>
          <p:cNvPr id="224" name=""/>
          <p:cNvSpPr/>
          <p:nvPr/>
        </p:nvSpPr>
        <p:spPr>
          <a:xfrm>
            <a:off x="1828800" y="580716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six factors you can use to answer the question, “How much should our firm spend on IT infrastructure?”</a:t>
            </a:r>
            <a:endParaRPr b="0" lang="en-US" sz="900" spc="-1" strike="noStrike">
              <a:solidFill>
                <a:srgbClr val="000000"/>
              </a:solidFill>
              <a:latin typeface="Times New Roman"/>
            </a:endParaRPr>
          </a:p>
        </p:txBody>
      </p:sp>
      <p:sp>
        <p:nvSpPr>
          <p:cNvPr id="22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226" name=""/>
          <p:cNvSpPr/>
          <p:nvPr/>
        </p:nvSpPr>
        <p:spPr>
          <a:xfrm>
            <a:off x="1905120" y="1219320"/>
            <a:ext cx="556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pic>
        <p:nvPicPr>
          <p:cNvPr id="227" name="" descr=""/>
          <p:cNvPicPr/>
          <p:nvPr/>
        </p:nvPicPr>
        <p:blipFill>
          <a:blip r:embed="rId2"/>
          <a:stretch/>
        </p:blipFill>
        <p:spPr>
          <a:xfrm>
            <a:off x="1828800" y="2203560"/>
            <a:ext cx="5562720" cy="358776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29" name=""/>
          <p:cNvSpPr/>
          <p:nvPr/>
        </p:nvSpPr>
        <p:spPr>
          <a:xfrm>
            <a:off x="457200" y="167652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otal Cost of Ownership of Technology Assets</a:t>
            </a:r>
            <a:endParaRPr b="0" lang="en-US" sz="2800" spc="-1" strike="noStrike">
              <a:solidFill>
                <a:srgbClr val="000000"/>
              </a:solidFill>
              <a:latin typeface="Times New Roman"/>
            </a:endParaRPr>
          </a:p>
          <a:p>
            <a:pPr marL="343080" indent="-3430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O model: </a:t>
            </a:r>
            <a:r>
              <a:rPr b="0" lang="en-US" sz="2400" spc="-1" strike="noStrike">
                <a:solidFill>
                  <a:srgbClr val="000000"/>
                </a:solidFill>
                <a:latin typeface="Arial"/>
              </a:rPr>
              <a:t>Used to analyze direct and indirect costs of systems</a:t>
            </a:r>
            <a:endParaRPr b="0" lang="en-US" sz="2400" spc="-1" strike="noStrike">
              <a:solidFill>
                <a:srgbClr val="000000"/>
              </a:solidFill>
              <a:latin typeface="Times New Roman"/>
            </a:endParaRPr>
          </a:p>
          <a:p>
            <a:pPr lvl="2" marL="1085760" indent="-228600">
              <a:lnSpc>
                <a:spcPct val="100000"/>
              </a:lnSpc>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software account for only about 20% of TCO</a:t>
            </a:r>
            <a:endParaRPr b="0" lang="en-US" sz="2400" spc="-1" strike="noStrike">
              <a:solidFill>
                <a:srgbClr val="000000"/>
              </a:solidFill>
              <a:latin typeface="Times New Roman"/>
            </a:endParaRPr>
          </a:p>
          <a:p>
            <a:pPr lvl="2" marL="1085760" indent="-228600">
              <a:lnSpc>
                <a:spcPct val="100000"/>
              </a:lnSpc>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sts include: Installation, training, support, maintenance, infrastructure, downtime, space and energy</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O can be reduced through greater centralization and standardization of hardware and software resources</a:t>
            </a:r>
            <a:endParaRPr b="0" lang="en-US" sz="2400" spc="-1" strike="noStrike">
              <a:solidFill>
                <a:srgbClr val="000000"/>
              </a:solidFill>
              <a:latin typeface="Times New Roman"/>
            </a:endParaRPr>
          </a:p>
        </p:txBody>
      </p:sp>
      <p:sp>
        <p:nvSpPr>
          <p:cNvPr id="23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32" name="" descr=""/>
          <p:cNvPicPr/>
          <p:nvPr/>
        </p:nvPicPr>
        <p:blipFill>
          <a:blip r:embed="rId2"/>
          <a:stretch/>
        </p:blipFill>
        <p:spPr>
          <a:xfrm>
            <a:off x="343080" y="971640"/>
            <a:ext cx="8422920" cy="2747880"/>
          </a:xfrm>
          <a:prstGeom prst="rect">
            <a:avLst/>
          </a:prstGeom>
          <a:ln w="9360">
            <a:solidFill>
              <a:srgbClr val="ffffff"/>
            </a:solidFill>
            <a:miter/>
          </a:ln>
        </p:spPr>
      </p:pic>
      <p:sp>
        <p:nvSpPr>
          <p:cNvPr id="233"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34"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nection Between the Firm, IT Infrastructure, and Business Capabilities</a:t>
            </a:r>
            <a:endParaRPr b="0" lang="en-US" sz="2400" spc="-1" strike="noStrike">
              <a:solidFill>
                <a:srgbClr val="000000"/>
              </a:solidFill>
              <a:latin typeface="Times New Roman"/>
            </a:endParaRPr>
          </a:p>
        </p:txBody>
      </p:sp>
      <p:sp>
        <p:nvSpPr>
          <p:cNvPr id="6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Times New Roman"/>
            </a:endParaRPr>
          </a:p>
        </p:txBody>
      </p:sp>
      <p:sp>
        <p:nvSpPr>
          <p:cNvPr id="65" name=""/>
          <p:cNvSpPr/>
          <p:nvPr/>
        </p:nvSpPr>
        <p:spPr>
          <a:xfrm>
            <a:off x="0" y="3276720"/>
            <a:ext cx="1523880" cy="27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ervices a firm is capable of providing to its customers, suppliers, and employees are a direct function of its IT infrastructure. Ideally, this infrastructure should support the firm’s business and information systems strategy. New information technologies have a powerful impact on business and IT strategies, as well as the services that can be provided to customers.</a:t>
            </a:r>
            <a:endParaRPr b="0" lang="en-US" sz="900" spc="-1" strike="noStrike">
              <a:solidFill>
                <a:srgbClr val="000000"/>
              </a:solidFill>
              <a:latin typeface="Times New Roman"/>
            </a:endParaRPr>
          </a:p>
        </p:txBody>
      </p:sp>
      <p:sp>
        <p:nvSpPr>
          <p:cNvPr id="66"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68" name=""/>
          <p:cNvGraphicFramePr/>
          <p:nvPr/>
        </p:nvGraphicFramePr>
        <p:xfrm>
          <a:off x="1752480" y="2514600"/>
          <a:ext cx="5753160" cy="3517920"/>
        </p:xfrm>
        <a:graphic>
          <a:graphicData uri="http://schemas.openxmlformats.org/presentationml/2006/ole">
            <p:oleObj r:id="rId2" spid="">
              <p:embed/>
              <p:pic>
                <p:nvPicPr>
                  <p:cNvPr id="69" name="" descr=""/>
                  <p:cNvPicPr/>
                  <p:nvPr/>
                </p:nvPicPr>
                <p:blipFill>
                  <a:blip r:embed="rId3"/>
                  <a:stretch/>
                </p:blipFill>
                <p:spPr>
                  <a:xfrm>
                    <a:off x="1752480" y="2514600"/>
                    <a:ext cx="5753160" cy="3517920"/>
                  </a:xfrm>
                  <a:prstGeom prst="rect">
                    <a:avLst/>
                  </a:prstGeom>
                  <a:ln w="0">
                    <a:noFill/>
                  </a:ln>
                </p:spPr>
              </p:pic>
            </p:oleObj>
          </a:graphicData>
        </a:graphic>
      </p:graphicFrame>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71" name=""/>
          <p:cNvSpPr/>
          <p:nvPr/>
        </p:nvSpPr>
        <p:spPr>
          <a:xfrm>
            <a:off x="0" y="1447920"/>
            <a:ext cx="914400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749"/>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volution of IT infrastructure</a:t>
            </a:r>
            <a:endParaRPr b="0" lang="en-US" sz="2800" spc="-1" strike="noStrike">
              <a:solidFill>
                <a:srgbClr val="000000"/>
              </a:solidFill>
              <a:latin typeface="Times New Roman"/>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purpose mainframe and minicomputer era: 1959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58 IBM first mainframes introduced, eventually used to support thousands of online remote terminals</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65 less expensive DEC minicomputers introduced, allowing decentralized computing</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computer era: 1981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Introduction of IBM PC</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iferation in 80s, 90s resulted in growth of personal software</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erver era: 1983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top clients networked to  servers, with processing work split between clients and servers</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may be two-tiered or multitiered (N-tiered)</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types of servers (network, application, Web)</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ras in IT Infrastructure Evolution</a:t>
            </a:r>
            <a:endParaRPr b="0" lang="en-US" sz="2400" spc="-1" strike="noStrike">
              <a:solidFill>
                <a:srgbClr val="000000"/>
              </a:solidFill>
              <a:latin typeface="Times New Roman"/>
            </a:endParaRPr>
          </a:p>
        </p:txBody>
      </p:sp>
      <p:sp>
        <p:nvSpPr>
          <p:cNvPr id="74" name=""/>
          <p:cNvSpPr/>
          <p:nvPr/>
        </p:nvSpPr>
        <p:spPr>
          <a:xfrm>
            <a:off x="390672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a:t>
            </a:r>
            <a:endParaRPr b="0" lang="en-US" sz="1800" spc="-1" strike="noStrike">
              <a:solidFill>
                <a:srgbClr val="000000"/>
              </a:solidFill>
              <a:latin typeface="Times New Roman"/>
            </a:endParaRPr>
          </a:p>
        </p:txBody>
      </p:sp>
      <p:sp>
        <p:nvSpPr>
          <p:cNvPr id="75" name=""/>
          <p:cNvSpPr/>
          <p:nvPr/>
        </p:nvSpPr>
        <p:spPr>
          <a:xfrm>
            <a:off x="2362320" y="573084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are the typical computing configurations characterizing each of the five eras of IT infrastructure evolution.</a:t>
            </a:r>
            <a:endParaRPr b="0" lang="en-US" sz="900" spc="-1" strike="noStrike">
              <a:solidFill>
                <a:srgbClr val="000000"/>
              </a:solidFill>
              <a:latin typeface="Times New Roman"/>
            </a:endParaRPr>
          </a:p>
        </p:txBody>
      </p:sp>
      <p:sp>
        <p:nvSpPr>
          <p:cNvPr id="76"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7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78" name="" descr=""/>
          <p:cNvPicPr/>
          <p:nvPr/>
        </p:nvPicPr>
        <p:blipFill>
          <a:blip r:embed="rId2"/>
          <a:stretch/>
        </p:blipFill>
        <p:spPr>
          <a:xfrm>
            <a:off x="2133720" y="2133720"/>
            <a:ext cx="4876560" cy="34858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80" name=""/>
          <p:cNvSpPr/>
          <p:nvPr/>
        </p:nvSpPr>
        <p:spPr>
          <a:xfrm>
            <a:off x="457200" y="182880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tion of IT infrastructure (cont.)</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erprise Internet computing era: 1992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ve toward integrating disparate networks, applications using Internet standards and enterprise applications</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 2000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fers to a model of computing where firms and individuals obtain computing power and software applications over the Internet</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stest growing form of computing</a:t>
            </a:r>
            <a:endParaRPr b="0" lang="en-US" sz="1800" spc="-1" strike="noStrike">
              <a:solidFill>
                <a:srgbClr val="000000"/>
              </a:solidFill>
              <a:latin typeface="Times New Roman"/>
            </a:endParaRPr>
          </a:p>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ras in IT Infrastructure Evolution (cont.)</a:t>
            </a:r>
            <a:endParaRPr b="0" lang="en-US" sz="2400" spc="-1" strike="noStrike">
              <a:solidFill>
                <a:srgbClr val="000000"/>
              </a:solidFill>
              <a:latin typeface="Times New Roman"/>
            </a:endParaRPr>
          </a:p>
        </p:txBody>
      </p:sp>
      <p:sp>
        <p:nvSpPr>
          <p:cNvPr id="83" name=""/>
          <p:cNvSpPr/>
          <p:nvPr/>
        </p:nvSpPr>
        <p:spPr>
          <a:xfrm>
            <a:off x="144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B</a:t>
            </a:r>
            <a:endParaRPr b="0" lang="en-US" sz="1800" spc="-1" strike="noStrike">
              <a:solidFill>
                <a:srgbClr val="000000"/>
              </a:solidFill>
              <a:latin typeface="Times New Roman"/>
            </a:endParaRPr>
          </a:p>
        </p:txBody>
      </p:sp>
      <p:sp>
        <p:nvSpPr>
          <p:cNvPr id="84"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8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86" name="" descr=""/>
          <p:cNvPicPr/>
          <p:nvPr/>
        </p:nvPicPr>
        <p:blipFill>
          <a:blip r:embed="rId2"/>
          <a:stretch/>
        </p:blipFill>
        <p:spPr>
          <a:xfrm>
            <a:off x="2057400" y="2057400"/>
            <a:ext cx="5105520" cy="43275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9:20Z</dcterms:modified>
  <cp:revision>388</cp:revision>
  <dc:subject/>
  <dc:title>PowerPoint Presentation</dc:title>
</cp:coreProperties>
</file>