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15F0-B8A1-4E84-9B23-B2ED51D02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FD74-261F-48EE-BCAE-BE4C06144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F034-F651-48F9-8D72-A30FA8B83C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challenges to internationalization and looks at specific challenges that firms 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hallenge discussed in the text is different accounting standards.  How can accounting standards be different from country to country? Ask students how an accounting standard can pose difficulties to developing a global information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EDI (discussed in an earlier chapt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224E-6EC6-4C48-A4BA-CF910BAC0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reality of global information systems in use in typical businesses today. Few businesses that have begun to internationalize have top-of-the-line systems and face powerful competition from those companies that do have truly internation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2884-9A08-4F3C-B9DF-CF7AD44C8C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general ways in business activities can be organized and the four main business strategies used by global compan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each of the strategies (domestic exporter, multinational, franchiser, transnational) and to provide an examp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622E-48EB-4005-8B26-F50110F206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how each of the four main global business strategies handles the organization of business functions (production, finance, sales, human resources,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se four strategies, the transnational is the truly international form, taking the globe, not the home country, as a frame of reference. However, it is important to note that few companies have attained a truly transnational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social effects, if any, might be if more and more companies become transnational, without reference to an origin count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B434-5079-49F2-883B-043D5C7B1E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main ways information systems are developed, organized, and configured; these follow the four global strategies discussed in the previous slides (domestic exporter, multinational, franchiser, trans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system configuration is most likely used by each of the four global strateg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CA6F-A3B7-4D26-B6D6-9016D5F744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shows which system configurations are typically used when a firm employs one of the four global strategies. The large Xs show the dominant patterns while the small Xs show the emerging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national has the most ambitious form of systems development, using a singular global environment. This structure is most visible in financial services companies, where the homogeneity of the product (money, money instruments) seems to overcome cultural barr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A1EDB-0CC4-4BAE-99B3-EDE7160876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how a firm should organize itself for doing  business on an international scale and offers three main principles to follow when developing a global company and information systems support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the second principal. (For local needs, there should be host country systems units; regional systems units should handle systems development across national boundaries but within major geographic regions; transnational systems should create linkages across and between regional systems.) What types of systems would serve local over regional nee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F0BF-5984-4CD0-8B36-08D782E4D2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right strategy is developed for a global systems, there are still many management problems that are encountered when developing and building a glob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the same types of challenges faced when building local systems – on an international scale, the challenges become increasingly complex. Ask students to describe how a user-designer communications gap might become more complex or heightened when building an international system. What other types of factors are at play when building an international system that make this a more complicated process than building a local syste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3834-C8E5-4EA0-889B-7730A1762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common scenario of a multinational company and the challenges it faces in trying to develop a transnational information system as it expands into Asian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mplementation problems can the company expect when it begins development? Can resistance be expected even from the IT departments in different countries? The text describes some likely reactions (the foreign divisions will resist efforts to agree on common user requirements, U.S. systems groups will not easily accept guidance from anyone recommending a transnational strategy, etc.)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27BA-DEC0-45F4-8D8D-3097422169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basic framework of a solution to implementing a transnational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systems might be considered “core systems.” What types of systems might fall into the partially coordinated category? The peripheral systems categor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E458-B16C-41E6-A9A3-4EC3C0D195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use and influence of information technology in developing a global business strategy. You could ask students to give an example of a global company and describe what it is that makes that company global.  What are the advantages that a global firm has over an equivalent national firm?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9486-BBCE-46BD-8216-4E53E86EC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cope of the three different categories of system (global, regional, lo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student an example industry, say, sports apparel manufacturing, and ask students to describe what local, regional, and global business processes might b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1146-5215-4F97-9949-BB94B85DB9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utlines the steps in creating a successful global systems solution appropriate to the firm’s goals and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a firm would determine its core business processes? (Conduct business process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the second step is to define the core systems identifies as the transnational systems, and these should be kept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it is crucial for senior managers at headquarters and in foreign divisions understand the benefits. Ask students how a larger customer base unleashes economies of scale. What does optimizing funds over a larger capital bas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300CA-B89A-417C-8279-89C4B16DDD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reconsiders the management challenges introduced in Table 15-4 and on Slide 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eant by “developing a common language to discuss the business” and why is thi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legitim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t the global level, there is far too much complexity to implement full-scale, world-wide application chang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82FA-E7EF-441B-9B30-B2D3A27778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solutions to the management challen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difficulties might there be in having all units update software at the sam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text suggest that, as much as possible, raw power should be avoided, when dealing with user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DE28-D78D-4482-A0ED-4E37A7B226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patchwork system that evolved as Colgate-Palmolive grew into a multinational giant and its efforts to establish control over IT projects worldwi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2890-A6AD-4447-A84F-B0DFC5933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nd the next emphasize the types of technological, rather than organizational, challenges faced when building a global system. It is important to note that all units having the same hardware and operating software does not guarantee integration, data standardization must also be enforced. For example, technical accounting terms such as the beginning and end of the fiscal year must be standardiz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78CE-60A4-40FD-A904-460911E354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echnology challenges in building global systems. Ask students  why MIS and TPS are typically the most important applic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1831-0D9F-4343-A59F-F8B29FC15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centage of population using the Internet, by region. It illustrates the lower penetration of Internet usage in developing countr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64A3-100F-4181-8509-55FAE8AA2E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the increasing use of and marketing of mobile phones in developing countries and its effect on quality of life and business opportunit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9D97-22FA-43BA-84DD-5A757CCBB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pter opening case discusses the steel manufacturer’s North American operation to improve its IT infrastructure. Ask students what the advantage is of having a single enterprise application manage end-to-end business processes, rather than separate applications manage individual process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D3CB-FCA1-4C0C-9889-CAE0141AD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ole of advanced networks and information systems in enabling the growth of global economic systems and global world order. Ask students why networks and IT advances make globalization more fea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uses the example of HP’s path to market to illustrate what globalization means for an international firm, illustrated in the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68E10-F663-44F4-B814-26C9FD30E2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path to market of an HP laptop. The concept and design came from a design team in the U.S., and engineering design was done in Taiwan. Graphics processors were designed in Canada and manufactured in Taiwan. Taiwan and South Korea manufactured LCD screens and memory chips. The hard drive was made in Japan. Other components came from China, Japan, Singapore, South Korea, and the U.S., and the laptop was assembled in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ir impressions are of this path to market. Ask them where the advantage lies in having this work accomplished piecemeal across the wor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5BCD-B504-47F4-B5C0-7F1D895C95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trategy a firm should take in order to make a successful move toward globalization.  Why would understanding the business drivers be the top consideration? Why is considering the technology platform the last consider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5BDB-5FAC-4A6B-B1D8-770B373DB9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rategy for developing an international system. There are a variety of choices when determining a corporate global strategy. For example,  you could sell to the glove from a domestic base, or organize production and distribution around the world. Determining a global strategy means deciding what portions of the business are located globally. What would be the biggest factors in making this deci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F4BE-531D-412E-85CC-54B73DE12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rategic consideration in building an international system is to examine the global environment in terms of business drivers and challenges. This slide and the next two examine business drivers and challenges that lead industries toward global markets and compet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global culture is and how this influences internationalization. Ask students to explain what the global knowledge base is, and how this has changed over the past half-century. Can all industries benefit equally from globalization? Why or why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4608-81AB-44B0-8EBA-04B4EB033C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environmental factors driving a business or industry to globalization. There are both general, cultural challenges in internationalization as well as specific challenges; this slide looks at the general challe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fine particularism and to provide an example of it. How would particularism, regionalism, nationalism, affect the success of a business trying to global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ransborder data flow? With the use of the Internet, how is transborder data flow an iss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fld id="{63A7D868-DD73-4448-9420-680125E2B0CE}"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13992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a:t>
            </a:r>
            <a:br>
              <a:rPr sz="4400"/>
            </a:br>
            <a:r>
              <a:rPr b="1" lang="en-US" sz="4400" spc="-1" strike="noStrike">
                <a:solidFill>
                  <a:srgbClr val="000000"/>
                </a:solidFill>
                <a:latin typeface="Arial"/>
                <a:ea typeface="Times New Roman"/>
              </a:rPr>
              <a:t>Global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hallenges and obstacles to global business systems (cont.)</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cific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ndard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EDI, e-mail, telecommunication standard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liability</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one networks not uniformly reliabl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ed</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fferent data transfer speeds, many slower than U.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ersonnel</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hortages of skilled consultants</a:t>
            </a:r>
            <a:endParaRPr b="0" lang="en-US" sz="18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ate of the ar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panies have inherited patchwork international systems using 1960s-era batch-oriented reporting, manual entry of data from one legacy system to another, and little online control and communica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difficulties in building appropriate international architecture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a system appropriate to firm’s global strateg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ing organization of systems and business unit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implementation issu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ing right technical platform</a:t>
            </a:r>
            <a:endParaRPr b="0" lang="en-US" sz="18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
        <p:nvSpPr>
          <p:cNvPr id="98"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trategies and business organization</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main kinds of organizational structure</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a:t>
            </a:r>
            <a:r>
              <a:rPr b="0" lang="en-US" sz="2000" spc="-1" strike="noStrike">
                <a:solidFill>
                  <a:srgbClr val="000000"/>
                </a:solidFill>
                <a:latin typeface="Arial"/>
              </a:rPr>
              <a:t>: In the home country</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entralized/dispersed</a:t>
            </a:r>
            <a:r>
              <a:rPr b="0" lang="en-US" sz="2000" spc="-1" strike="noStrike">
                <a:solidFill>
                  <a:srgbClr val="000000"/>
                </a:solidFill>
                <a:latin typeface="Arial"/>
              </a:rPr>
              <a:t>: To local foreign uni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ed</a:t>
            </a:r>
            <a:r>
              <a:rPr b="0" lang="en-US" sz="2000" spc="-1" strike="noStrike">
                <a:solidFill>
                  <a:srgbClr val="000000"/>
                </a:solidFill>
                <a:latin typeface="Arial"/>
              </a:rPr>
              <a:t>: All units participate as equal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global strategi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estic exporter</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national</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chiser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national</a:t>
            </a:r>
            <a:endParaRPr b="0" lang="en-US" sz="2000" spc="-1" strike="noStrike">
              <a:solidFill>
                <a:srgbClr val="000000"/>
              </a:solidFill>
              <a:latin typeface="Arial"/>
            </a:endParaRPr>
          </a:p>
        </p:txBody>
      </p:sp>
      <p:sp>
        <p:nvSpPr>
          <p:cNvPr id="99" name="Rectangle 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101" name=""/>
          <p:cNvGraphicFramePr/>
          <p:nvPr/>
        </p:nvGraphicFramePr>
        <p:xfrm>
          <a:off x="304920" y="1981080"/>
          <a:ext cx="8534160" cy="3992760"/>
        </p:xfrm>
        <a:graphic>
          <a:graphicData uri="http://schemas.openxmlformats.org/drawingml/2006/table">
            <a:tbl>
              <a:tblPr/>
              <a:tblGrid>
                <a:gridCol w="1692000"/>
                <a:gridCol w="1690920"/>
                <a:gridCol w="1692360"/>
                <a:gridCol w="1690560"/>
                <a:gridCol w="176832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FUN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ESTIC EXPORT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NAT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S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NATION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e/</a:t>
                      </a:r>
                      <a:br>
                        <a:rPr sz="1800"/>
                      </a:br>
                      <a:r>
                        <a:rPr b="1" lang="en-US" sz="1800" spc="-1" strike="noStrike">
                          <a:solidFill>
                            <a:srgbClr val="000000"/>
                          </a:solidFill>
                          <a:latin typeface="Arial"/>
                        </a:rPr>
                        <a:t>Accoun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br>
                        <a:rPr sz="1800"/>
                      </a:br>
                      <a:r>
                        <a:rPr b="1" lang="en-US" sz="1800" spc="-1" strike="noStrike">
                          <a:solidFill>
                            <a:srgbClr val="000000"/>
                          </a:solidFill>
                          <a:latin typeface="Arial"/>
                        </a:rPr>
                        <a:t>Market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Resour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sp>
        <p:nvSpPr>
          <p:cNvPr id="102" name="Rectangle 60"/>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Business Strategy and Structure</a:t>
            </a:r>
            <a:endParaRPr b="0" lang="en-US" sz="2400" spc="-1" strike="noStrike">
              <a:solidFill>
                <a:srgbClr val="000000"/>
              </a:solidFill>
              <a:latin typeface="Arial"/>
            </a:endParaRPr>
          </a:p>
        </p:txBody>
      </p:sp>
      <p:sp>
        <p:nvSpPr>
          <p:cNvPr id="10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systems to fit the strategy</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t>
            </a:r>
            <a:r>
              <a:rPr b="0" lang="en-US" sz="2000" spc="-1" strike="noStrike">
                <a:solidFill>
                  <a:srgbClr val="000000"/>
                </a:solidFill>
                <a:latin typeface="Arial"/>
              </a:rPr>
              <a:t>onfiguration, management, and development of systems tend to follow global strategy chose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types of systems configuration</a:t>
            </a:r>
            <a:endParaRPr b="0" lang="en-US" sz="20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d</a:t>
            </a:r>
            <a:r>
              <a:rPr b="0" lang="en-US" sz="1800" spc="-1" strike="noStrike">
                <a:solidFill>
                  <a:srgbClr val="000000"/>
                </a:solidFill>
                <a:latin typeface="Arial"/>
              </a:rPr>
              <a:t>: Systems development and operation occur totally at domestic home base</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plicated</a:t>
            </a:r>
            <a:r>
              <a:rPr b="0" lang="en-US" sz="1800" spc="-1" strike="noStrike">
                <a:solidFill>
                  <a:srgbClr val="000000"/>
                </a:solidFill>
                <a:latin typeface="Arial"/>
              </a:rPr>
              <a:t>: Development occurs at home base but operations are handed over to autonomous units in foreign loc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entralized</a:t>
            </a:r>
            <a:r>
              <a:rPr b="0" lang="en-US" sz="1800" spc="-1" strike="noStrike">
                <a:solidFill>
                  <a:srgbClr val="000000"/>
                </a:solidFill>
                <a:latin typeface="Arial"/>
              </a:rPr>
              <a:t>: Each foreign unit designs own solutions and system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ed</a:t>
            </a:r>
            <a:r>
              <a:rPr b="0" lang="en-US" sz="1800" spc="-1" strike="noStrike">
                <a:solidFill>
                  <a:srgbClr val="000000"/>
                </a:solidFill>
                <a:latin typeface="Arial"/>
              </a:rPr>
              <a:t>: Development and operations occur in coordinated fashion across all units</a:t>
            </a:r>
            <a:endParaRPr b="0" lang="en-US" sz="1800" spc="-1" strike="noStrike">
              <a:solidFill>
                <a:srgbClr val="000000"/>
              </a:solidFill>
              <a:latin typeface="Arial"/>
            </a:endParaRPr>
          </a:p>
        </p:txBody>
      </p:sp>
      <p:sp>
        <p:nvSpPr>
          <p:cNvPr id="10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0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 Strategy and Systems Configurations</a:t>
            </a:r>
            <a:endParaRPr b="0" lang="en-US" sz="2400" spc="-1" strike="noStrike">
              <a:solidFill>
                <a:srgbClr val="000000"/>
              </a:solidFill>
              <a:latin typeface="Arial"/>
            </a:endParaRPr>
          </a:p>
        </p:txBody>
      </p:sp>
      <p:sp>
        <p:nvSpPr>
          <p:cNvPr id="108" name="Text Box 3"/>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3</a:t>
            </a:r>
            <a:endParaRPr b="0" lang="en-US" sz="1800" spc="-1" strike="noStrike">
              <a:solidFill>
                <a:srgbClr val="000000"/>
              </a:solidFill>
              <a:latin typeface="Arial"/>
            </a:endParaRPr>
          </a:p>
        </p:txBody>
      </p:sp>
      <p:sp>
        <p:nvSpPr>
          <p:cNvPr id="109" name="Text Box 4"/>
          <p:cNvSpPr/>
          <p:nvPr/>
        </p:nvSpPr>
        <p:spPr>
          <a:xfrm>
            <a:off x="2514600" y="5181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large Xs show the dominant patterns, and the small Xs show the emerging patterns. For instance, domestic exporters rely predominantly on centralized systems, but there is continual pressure and some development of decentralized systems in local marketing regions.</a:t>
            </a:r>
            <a:endParaRPr b="0" lang="en-US" sz="900" spc="-1" strike="noStrike">
              <a:solidFill>
                <a:srgbClr val="000000"/>
              </a:solidFill>
              <a:latin typeface="Arial"/>
            </a:endParaRPr>
          </a:p>
        </p:txBody>
      </p:sp>
      <p:sp>
        <p:nvSpPr>
          <p:cNvPr id="110" name="Rectangle 3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111" name="Picture 38" descr="Fig-15-3"/>
          <p:cNvPicPr/>
          <p:nvPr/>
        </p:nvPicPr>
        <p:blipFill>
          <a:blip r:embed="rId2"/>
          <a:stretch/>
        </p:blipFill>
        <p:spPr>
          <a:xfrm>
            <a:off x="533520" y="2133720"/>
            <a:ext cx="8076960" cy="2562120"/>
          </a:xfrm>
          <a:prstGeom prst="rect">
            <a:avLst/>
          </a:prstGeom>
          <a:ln w="0">
            <a:noFill/>
          </a:ln>
        </p:spPr>
      </p:pic>
      <p:sp>
        <p:nvSpPr>
          <p:cNvPr id="11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3"/>
          <p:cNvSpPr/>
          <p:nvPr/>
        </p:nvSpPr>
        <p:spPr>
          <a:xfrm>
            <a:off x="457200" y="1600200"/>
            <a:ext cx="8229600" cy="442116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velop a global company and information systems support structure:</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 value-adding activities along lines of comparative advantage</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Locate functions where they can best be performed, for least cost and maximum impact</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nd operate systems units at each level of corporate activity—regional, national, and international</a:t>
            </a:r>
            <a:endParaRPr b="0" lang="en-US" sz="20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t world headquarter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ffice responsible for development of international systems</a:t>
            </a:r>
            <a:endParaRPr b="0" lang="en-US" sz="18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CIO position</a:t>
            </a:r>
            <a:endParaRPr b="0" lang="en-US" sz="1800" spc="-1" strike="noStrike">
              <a:solidFill>
                <a:srgbClr val="000000"/>
              </a:solidFill>
              <a:latin typeface="Arial"/>
            </a:endParaRPr>
          </a:p>
        </p:txBody>
      </p:sp>
      <p:sp>
        <p:nvSpPr>
          <p:cNvPr id="11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
        <p:nvSpPr>
          <p:cNvPr id="117"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nciple management challenges in developing global system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greeing on common user requirement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roducing changes in business proces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application development</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ng software releases</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couraging local users to support global systems</a:t>
            </a:r>
            <a:endParaRPr b="0" lang="en-US" sz="24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ical scenario: Disorganization on a global scale</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t>
            </a:r>
            <a:r>
              <a:rPr b="0" lang="en-US" sz="2000" spc="-1" strike="noStrike">
                <a:solidFill>
                  <a:srgbClr val="000000"/>
                </a:solidFill>
                <a:latin typeface="Arial"/>
              </a:rPr>
              <a:t>raditional multinational consumer-goods company based in U.S. and operating in Europe would like to expand into Asian marke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headquarters and strategic management in U.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centrally coordinated system is financial controls and reporting </a:t>
            </a:r>
            <a:endParaRPr b="0" lang="en-US" sz="18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regional, national production and marketing center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divisions have separate IT system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systems are incompatible</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duction facility uses different ERP system, different hardware and database platforms, etc.</a:t>
            </a:r>
            <a:endParaRPr b="0" lang="en-US" sz="2000" spc="-1" strike="noStrike">
              <a:solidFill>
                <a:srgbClr val="000000"/>
              </a:solidFill>
              <a:latin typeface="Arial"/>
            </a:endParaRPr>
          </a:p>
        </p:txBody>
      </p:sp>
      <p:sp>
        <p:nvSpPr>
          <p:cNvPr id="12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1"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9536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lobal systems strategy</a:t>
            </a:r>
            <a:endParaRPr b="0" lang="en-US" sz="28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are only core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re systems support functionality critical to firm</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tially coordinate systems that share some key element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ave to be totally common across national boundaries</a:t>
            </a:r>
            <a:endParaRPr b="0" lang="en-US" sz="20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tion desirable</a:t>
            </a:r>
            <a:endParaRPr b="0" lang="en-US" sz="2000" spc="-1" strike="noStrike">
              <a:solidFill>
                <a:srgbClr val="000000"/>
              </a:solidFill>
              <a:latin typeface="Arial"/>
            </a:endParaRPr>
          </a:p>
          <a:p>
            <a:pPr lvl="1" marL="914400" indent="-457200">
              <a:lnSpc>
                <a:spcPct val="100000"/>
              </a:lnSpc>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ripheral systems</a:t>
            </a:r>
            <a:endParaRPr b="0" lang="en-US" sz="2400" spc="-1" strike="noStrike">
              <a:solidFill>
                <a:srgbClr val="000000"/>
              </a:solidFill>
              <a:latin typeface="Arial"/>
            </a:endParaRPr>
          </a:p>
          <a:p>
            <a:pPr lvl="2" marL="1314360" indent="-4572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Need to suit local requirements only</a:t>
            </a:r>
            <a:endParaRPr b="0" lang="en-US" sz="2000" spc="-1" strike="noStrike">
              <a:solidFill>
                <a:srgbClr val="000000"/>
              </a:solidFill>
              <a:latin typeface="Arial"/>
            </a:endParaRPr>
          </a:p>
        </p:txBody>
      </p:sp>
      <p:sp>
        <p:nvSpPr>
          <p:cNvPr id="12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2860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62" name="Rectangle 7"/>
          <p:cNvSpPr/>
          <p:nvPr/>
        </p:nvSpPr>
        <p:spPr>
          <a:xfrm>
            <a:off x="457200" y="1600200"/>
            <a:ext cx="80773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the major factors driving the internationalization of busin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strategies for developing global business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monstrate how information systems can support different global business strategie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the challenges posed by global information systems and management solution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Evaluate the issues and technical alternatives to be considered when developing international information systems.</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ocal, Regional, and Global Systems</a:t>
            </a:r>
            <a:endParaRPr b="0" lang="en-US" sz="2400" spc="-1" strike="noStrike">
              <a:solidFill>
                <a:srgbClr val="000000"/>
              </a:solidFill>
              <a:latin typeface="Arial"/>
            </a:endParaRPr>
          </a:p>
        </p:txBody>
      </p:sp>
      <p:sp>
        <p:nvSpPr>
          <p:cNvPr id="126" name="Text Box 3"/>
          <p:cNvSpPr/>
          <p:nvPr/>
        </p:nvSpPr>
        <p:spPr>
          <a:xfrm>
            <a:off x="230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4</a:t>
            </a:r>
            <a:endParaRPr b="0" lang="en-US" sz="1800" spc="-1" strike="noStrike">
              <a:solidFill>
                <a:srgbClr val="000000"/>
              </a:solidFill>
              <a:latin typeface="Arial"/>
            </a:endParaRPr>
          </a:p>
        </p:txBody>
      </p:sp>
      <p:sp>
        <p:nvSpPr>
          <p:cNvPr id="127" name="Text Box 4"/>
          <p:cNvSpPr/>
          <p:nvPr/>
        </p:nvSpPr>
        <p:spPr>
          <a:xfrm>
            <a:off x="228600" y="3429000"/>
            <a:ext cx="2514600" cy="23598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and other coordination costs increase as the firm moves from local option systems toward regional and global systems. However, transaction costs of participating in global markets probably decrease as firms develop global systems. A sensible strategy is to reduce agency costs by developing only a few core global systems that are vital for global operations, leaving other systems in the hands of regional and local units.</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From Managing Information Technology in Multinational Corporations by Edward M. Roche, © 1993. Adapted by permission of Prentice Hall, Inc., Upper Saddle River, N.J.</a:t>
            </a:r>
            <a:endParaRPr b="0" lang="en-US" sz="900" spc="-1" strike="noStrike">
              <a:solidFill>
                <a:srgbClr val="000000"/>
              </a:solidFill>
              <a:latin typeface="Arial"/>
            </a:endParaRPr>
          </a:p>
        </p:txBody>
      </p:sp>
      <p:sp>
        <p:nvSpPr>
          <p:cNvPr id="128"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2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pic>
        <p:nvPicPr>
          <p:cNvPr id="130" name="Picture 8" descr="Fig-15-4.tif"/>
          <p:cNvPicPr/>
          <p:nvPr/>
        </p:nvPicPr>
        <p:blipFill>
          <a:blip r:embed="rId2"/>
          <a:stretch/>
        </p:blipFill>
        <p:spPr>
          <a:xfrm>
            <a:off x="2895480" y="1905120"/>
            <a:ext cx="5515200" cy="423072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fine core business processes</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dentify core systems to coordinate centrally</a:t>
            </a:r>
            <a:endParaRPr b="0" lang="en-US" sz="24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oose an approach</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iecemeal and grand design approaches tend to fail</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a:t>
            </a:r>
            <a:r>
              <a:rPr b="0" lang="en-US" sz="2000" spc="-1" strike="noStrike">
                <a:solidFill>
                  <a:srgbClr val="000000"/>
                </a:solidFill>
                <a:latin typeface="Arial"/>
              </a:rPr>
              <a:t>volve transnational applications incrementally from existing applications</a:t>
            </a:r>
            <a:endParaRPr b="0" lang="en-US" sz="2000" spc="-1" strike="noStrike">
              <a:solidFill>
                <a:srgbClr val="000000"/>
              </a:solidFill>
              <a:latin typeface="Arial"/>
            </a:endParaRPr>
          </a:p>
          <a:p>
            <a:pPr lvl="1" marL="914400" indent="-457200">
              <a:lnSpc>
                <a:spcPct val="100000"/>
              </a:lnSpc>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ke benefits clear</a:t>
            </a:r>
            <a:endParaRPr b="0" lang="en-US" sz="24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flexibilit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ains in efficiency</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lobal markets and larger customer base unleash new economies of scale at production facilities</a:t>
            </a:r>
            <a:endParaRPr b="0" lang="en-US" sz="2000" spc="-1" strike="noStrike">
              <a:solidFill>
                <a:srgbClr val="000000"/>
              </a:solidFill>
              <a:latin typeface="Arial"/>
            </a:endParaRPr>
          </a:p>
          <a:p>
            <a:pPr lvl="2" marL="1314360" indent="-4572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timizing corporate funds over much larger capital base</a:t>
            </a:r>
            <a:endParaRPr b="0" lang="en-US" sz="2000" spc="-1" strike="noStrike">
              <a:solidFill>
                <a:srgbClr val="000000"/>
              </a:solidFill>
              <a:latin typeface="Arial"/>
            </a:endParaRPr>
          </a:p>
        </p:txBody>
      </p:sp>
      <p:sp>
        <p:nvSpPr>
          <p:cNvPr id="13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greeing on common user requirement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rt list of core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common language, understanding of common elements and unique local qualiti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roducing changes in business proces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ccess depends on legitimacy, authority, ability to involve users in change design proces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applications development</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ordinate change through incremental step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duce set of transnational systems to bare minimum</a:t>
            </a:r>
            <a:endParaRPr b="0" lang="en-US" sz="2000" spc="-1" strike="noStrike">
              <a:solidFill>
                <a:srgbClr val="000000"/>
              </a:solidFill>
              <a:latin typeface="Arial"/>
            </a:endParaRPr>
          </a:p>
        </p:txBody>
      </p:sp>
      <p:sp>
        <p:nvSpPr>
          <p:cNvPr id="13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11"/>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management solution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ordinating software releases</a:t>
            </a:r>
            <a:endParaRPr b="0" lang="en-US" sz="2000" spc="-1" strike="noStrike">
              <a:solidFill>
                <a:srgbClr val="000000"/>
              </a:solidFill>
              <a:latin typeface="Arial"/>
            </a:endParaRPr>
          </a:p>
          <a:p>
            <a:pPr lvl="2" marL="1200240" indent="-28584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stitute procedures to ensure all operating units update at sam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couraging local users to support global systems</a:t>
            </a:r>
            <a:endParaRPr b="0" lang="en-US" sz="2000" spc="-1" strike="noStrike">
              <a:solidFill>
                <a:srgbClr val="000000"/>
              </a:solidFill>
              <a:latin typeface="Arial"/>
            </a:endParaRPr>
          </a:p>
          <a:p>
            <a:pPr lvl="2" marL="1200240" indent="-28584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optation: </a:t>
            </a:r>
            <a:r>
              <a:rPr b="0" lang="en-US" sz="1800" spc="-1" strike="noStrike">
                <a:solidFill>
                  <a:srgbClr val="000000"/>
                </a:solidFill>
                <a:latin typeface="Arial"/>
                <a:ea typeface="Times New Roman"/>
              </a:rPr>
              <a:t>B</a:t>
            </a:r>
            <a:r>
              <a:rPr b="0" lang="en-US" sz="1800" spc="-1" strike="noStrike">
                <a:solidFill>
                  <a:srgbClr val="000000"/>
                </a:solidFill>
                <a:latin typeface="Arial"/>
              </a:rPr>
              <a:t>ringing the opposition into design and implementation process without giving up control over direction and nature of the change</a:t>
            </a:r>
            <a:endParaRPr b="0" lang="en-US" sz="18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 each country unit to develop one transnational application</a:t>
            </a:r>
            <a:endParaRPr b="0" lang="en-US" sz="1600" spc="-1" strike="noStrike">
              <a:solidFill>
                <a:srgbClr val="000000"/>
              </a:solidFill>
              <a:latin typeface="Arial"/>
            </a:endParaRPr>
          </a:p>
          <a:p>
            <a:pPr lvl="3" marL="142884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new transnational centers of excellence</a:t>
            </a:r>
            <a:endParaRPr b="0" lang="en-US" sz="1600" spc="-1" strike="noStrike">
              <a:solidFill>
                <a:srgbClr val="000000"/>
              </a:solidFill>
              <a:latin typeface="Arial"/>
            </a:endParaRPr>
          </a:p>
        </p:txBody>
      </p:sp>
      <p:sp>
        <p:nvSpPr>
          <p:cNvPr id="138"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3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Global System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was the traditional method of allocating IT resources to profits no longer effective?</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is it important for central U.S. management to understand the global disposition of IT personnel and funds?</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ich of the four global business strategies described in this chapter is Colgate pursuing, and how has this affected its selection of an IT resource management system?</a:t>
            </a:r>
            <a:endParaRPr b="0" lang="en-US" sz="1800" spc="-1" strike="noStrike">
              <a:solidFill>
                <a:srgbClr val="000000"/>
              </a:solidFill>
              <a:latin typeface="Arial"/>
            </a:endParaRPr>
          </a:p>
          <a:p>
            <a:pPr lvl="1" marL="743040" indent="-285840">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elements of “The Management Solution,” described in this chapter, are mentioned in the case study? What elements are missing?</a:t>
            </a:r>
            <a:endParaRPr b="0" lang="en-US" sz="1800" spc="-1" strike="noStrike">
              <a:solidFill>
                <a:srgbClr val="000000"/>
              </a:solidFill>
              <a:latin typeface="Arial"/>
            </a:endParaRPr>
          </a:p>
        </p:txBody>
      </p:sp>
      <p:sp>
        <p:nvSpPr>
          <p:cNvPr id="141" name="Rectangle 5"/>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lgate-Palmolive Keeps the World Smiling</a:t>
            </a:r>
            <a:endParaRPr b="0" lang="en-US" sz="2400" spc="-1" strike="noStrike">
              <a:solidFill>
                <a:srgbClr val="000000"/>
              </a:solidFill>
              <a:latin typeface="Arial"/>
            </a:endParaRPr>
          </a:p>
        </p:txBody>
      </p:sp>
      <p:sp>
        <p:nvSpPr>
          <p:cNvPr id="142"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rganizing International Information System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457200" y="1600200"/>
            <a:ext cx="80773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ing platforms and systems integration</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new core systems will fit in with existing suite of applications developed around globe by different divisions </a:t>
            </a:r>
            <a:endParaRPr b="0" lang="en-US" sz="18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ation: Data standards, interfaces, software, etc</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nectivity</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does not guarantee any level of service</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rms use private networks and VPN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enetration of PCs, outdated infrastructures in developing countries</a:t>
            </a:r>
            <a:endParaRPr b="0" lang="en-US" sz="1800" spc="-1" strike="noStrike">
              <a:solidFill>
                <a:srgbClr val="000000"/>
              </a:solidFill>
              <a:latin typeface="Arial"/>
            </a:endParaRPr>
          </a:p>
          <a:p>
            <a:pPr marL="343080" indent="-343080">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ectangle 2"/>
          <p:cNvSpPr/>
          <p:nvPr/>
        </p:nvSpPr>
        <p:spPr>
          <a:xfrm>
            <a:off x="457200" y="1600200"/>
            <a:ext cx="80773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challenges of global systems (co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ftwar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new systems with old</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interface design issues, language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localization: converting software to operate in second language</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 software applica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S and MIS </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ly, SCM and enterprise systems to standardize business processes</a:t>
            </a:r>
            <a:endParaRPr b="0" lang="en-US" sz="16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 that enhance productivity of international teams</a:t>
            </a:r>
            <a:endParaRPr b="0" lang="en-US" sz="1600" spc="-1" strike="noStrike">
              <a:solidFill>
                <a:srgbClr val="000000"/>
              </a:solidFill>
              <a:latin typeface="Arial"/>
            </a:endParaRPr>
          </a:p>
        </p:txBody>
      </p:sp>
      <p:sp>
        <p:nvSpPr>
          <p:cNvPr id="14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4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Penetration by Region</a:t>
            </a:r>
            <a:endParaRPr b="0" lang="en-US" sz="2400" spc="-1" strike="noStrike">
              <a:solidFill>
                <a:srgbClr val="000000"/>
              </a:solidFill>
              <a:latin typeface="Arial"/>
            </a:endParaRPr>
          </a:p>
        </p:txBody>
      </p:sp>
      <p:sp>
        <p:nvSpPr>
          <p:cNvPr id="151" name="Text Box 3"/>
          <p:cNvSpPr/>
          <p:nvPr/>
        </p:nvSpPr>
        <p:spPr>
          <a:xfrm>
            <a:off x="30636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5</a:t>
            </a:r>
            <a:endParaRPr b="0" lang="en-US" sz="1800" spc="-1" strike="noStrike">
              <a:solidFill>
                <a:srgbClr val="000000"/>
              </a:solidFill>
              <a:latin typeface="Arial"/>
            </a:endParaRPr>
          </a:p>
        </p:txBody>
      </p:sp>
      <p:sp>
        <p:nvSpPr>
          <p:cNvPr id="152" name="Text Box 4"/>
          <p:cNvSpPr/>
          <p:nvPr/>
        </p:nvSpPr>
        <p:spPr>
          <a:xfrm>
            <a:off x="228600" y="4800600"/>
            <a:ext cx="205740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ercentage of the total population using the Internet in developing countries is much smaller than in the United States and Europe.</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CIA World Factbook, 2008.</a:t>
            </a:r>
            <a:endParaRPr b="0" lang="en-US" sz="900" spc="-1" strike="noStrike">
              <a:solidFill>
                <a:srgbClr val="000000"/>
              </a:solidFill>
              <a:latin typeface="Arial"/>
            </a:endParaRPr>
          </a:p>
        </p:txBody>
      </p:sp>
      <p:sp>
        <p:nvSpPr>
          <p:cNvPr id="153"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pic>
        <p:nvPicPr>
          <p:cNvPr id="155" name="Picture 8" descr="Fig-15-5.tif"/>
          <p:cNvPicPr/>
          <p:nvPr/>
        </p:nvPicPr>
        <p:blipFill>
          <a:blip r:embed="rId2"/>
          <a:stretch/>
        </p:blipFill>
        <p:spPr>
          <a:xfrm>
            <a:off x="2436840" y="1905120"/>
            <a:ext cx="6410160" cy="396216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343080" y="1828800"/>
            <a:ext cx="8458200" cy="4572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d the Interactive Session: Organizations, and then discuss the following questions:</a:t>
            </a:r>
            <a:endParaRPr b="0" lang="en-US" sz="20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strategies are cell phone companies using to “close the digital divide” and market phones to the poorest segment of the world’s population?</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y do economists predict that widespread cell phone usage in developing countries would have an unprecedented effect on the growth of those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some examples of how cell phones might increase quality of life for residents of developing countries?</a:t>
            </a:r>
            <a:endParaRPr b="0" lang="en-US" sz="1800" spc="-1" strike="noStrike">
              <a:solidFill>
                <a:srgbClr val="000000"/>
              </a:solidFill>
              <a:latin typeface="Arial"/>
            </a:endParaRPr>
          </a:p>
          <a:p>
            <a:pPr lvl="1" marL="743040" indent="-28584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you believe that cell phones will proliferate widely through Africa and Asia? Why?</a:t>
            </a:r>
            <a:endParaRPr b="0" lang="en-US" sz="1800" spc="-1" strike="noStrike">
              <a:solidFill>
                <a:srgbClr val="000000"/>
              </a:solidFill>
              <a:latin typeface="Arial"/>
            </a:endParaRPr>
          </a:p>
        </p:txBody>
      </p:sp>
      <p:sp>
        <p:nvSpPr>
          <p:cNvPr id="157"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Cell Phones Close the Global Digital Divide?</a:t>
            </a:r>
            <a:endParaRPr b="0" lang="en-US" sz="2400" spc="-1" strike="noStrike">
              <a:solidFill>
                <a:srgbClr val="000000"/>
              </a:solidFill>
              <a:latin typeface="Arial"/>
            </a:endParaRPr>
          </a:p>
        </p:txBody>
      </p:sp>
      <p:sp>
        <p:nvSpPr>
          <p:cNvPr id="158" name="Rectangle 2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15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chnology Issues and Opportunities for Global Value Chain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61" name="" descr=""/>
          <p:cNvPicPr/>
          <p:nvPr/>
        </p:nvPicPr>
        <p:blipFill>
          <a:blip r:embed="rId2"/>
          <a:stretch/>
        </p:blipFill>
        <p:spPr>
          <a:xfrm>
            <a:off x="343080" y="971640"/>
            <a:ext cx="8422920" cy="2747880"/>
          </a:xfrm>
          <a:prstGeom prst="rect">
            <a:avLst/>
          </a:prstGeom>
          <a:ln w="9360">
            <a:solidFill>
              <a:srgbClr val="ffffff"/>
            </a:solidFill>
            <a:miter/>
          </a:ln>
        </p:spPr>
      </p:pic>
      <p:sp>
        <p:nvSpPr>
          <p:cNvPr id="162"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63"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rstal Creates an IT Infrastructure for Global Steelmaking</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Needed global production platform; existing infrastructure was a hodge-podge of different systems, platforms; data did not flow between systems</a:t>
            </a:r>
            <a:endParaRPr b="0" lang="en-US" sz="2200" spc="-1" strike="noStrike">
              <a:solidFill>
                <a:srgbClr val="000000"/>
              </a:solidFill>
              <a:latin typeface="Constantia"/>
            </a:endParaRPr>
          </a:p>
          <a:p>
            <a:pPr marL="343080" indent="-343080">
              <a:lnSpc>
                <a:spcPct val="90000"/>
              </a:lnSpc>
              <a:spcBef>
                <a:spcPts val="55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200" spc="-1" strike="noStrike">
                <a:solidFill>
                  <a:srgbClr val="9f0f10"/>
                </a:solidFill>
                <a:latin typeface="Arial"/>
              </a:rPr>
              <a:t>Standardized on Oracle E-Business Suite 12, </a:t>
            </a:r>
            <a:r>
              <a:rPr b="1" lang="en-US" sz="2200" spc="-1" strike="noStrike">
                <a:solidFill>
                  <a:srgbClr val="000000"/>
                </a:solidFill>
                <a:latin typeface="Arial"/>
              </a:rPr>
              <a:t>an enterprise application with modules for multiple functions</a:t>
            </a:r>
            <a:endParaRPr b="0" lang="en-US" sz="2200" spc="-1" strike="noStrike">
              <a:solidFill>
                <a:srgbClr val="000000"/>
              </a:solidFill>
              <a:latin typeface="Constantia"/>
            </a:endParaRPr>
          </a:p>
          <a:p>
            <a:pPr marL="343080" indent="-343080">
              <a:lnSpc>
                <a:spcPct val="90000"/>
              </a:lnSpc>
              <a:spcBef>
                <a:spcPts val="550"/>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With integrated system, Severstal NA is able to optimize end-to-end processes instead of individual processes; to deliver higher quality and timelier reporting to parent company</a:t>
            </a:r>
            <a:endParaRPr b="0" lang="en-US" sz="2200" spc="-1" strike="noStrike">
              <a:solidFill>
                <a:srgbClr val="000000"/>
              </a:solidFill>
              <a:latin typeface="Constantia"/>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lustrates digital technology being used by global firms adjusting their systems to support rapid growth in world trade</a:t>
            </a:r>
            <a:endParaRPr b="0" lang="en-US" sz="2200" spc="-1" strike="noStrike">
              <a:solidFill>
                <a:srgbClr val="000000"/>
              </a:solidFill>
              <a:latin typeface="Constantia"/>
            </a:endParaRPr>
          </a:p>
        </p:txBody>
      </p:sp>
      <p:sp>
        <p:nvSpPr>
          <p:cNvPr id="65"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
        <p:nvSpPr>
          <p:cNvPr id="67" name="Rectangle 6"/>
          <p:cNvSpPr/>
          <p:nvPr/>
        </p:nvSpPr>
        <p:spPr>
          <a:xfrm>
            <a:off x="457200" y="1600200"/>
            <a:ext cx="77724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economic system and global world order driven by advanced networks and information system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of international trade has radically altered domestic economies around the globe</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production of many high-end electronic products parceled out to multiple countr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ewlett-Packard laptop computer</a:t>
            </a:r>
            <a:endParaRPr b="0" lang="en-US" sz="2000" spc="-1" strike="noStrike">
              <a:solidFill>
                <a:srgbClr val="000000"/>
              </a:solidFill>
              <a:latin typeface="Arial"/>
            </a:endParaRPr>
          </a:p>
        </p:txBody>
      </p:sp>
      <p:sp>
        <p:nvSpPr>
          <p:cNvPr id="68" name="Rectangle 2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HP Laptop’s Path to Market</a:t>
            </a:r>
            <a:endParaRPr b="0" lang="en-US" sz="2400" spc="-1" strike="noStrike">
              <a:solidFill>
                <a:srgbClr val="000000"/>
              </a:solidFill>
              <a:latin typeface="Arial"/>
            </a:endParaRPr>
          </a:p>
        </p:txBody>
      </p:sp>
      <p:sp>
        <p:nvSpPr>
          <p:cNvPr id="70" name="Text Box 3"/>
          <p:cNvSpPr/>
          <p:nvPr/>
        </p:nvSpPr>
        <p:spPr>
          <a:xfrm>
            <a:off x="3871800" y="617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1</a:t>
            </a:r>
            <a:endParaRPr b="0" lang="en-US" sz="1800" spc="-1" strike="noStrike">
              <a:solidFill>
                <a:srgbClr val="000000"/>
              </a:solidFill>
              <a:latin typeface="Arial"/>
            </a:endParaRPr>
          </a:p>
        </p:txBody>
      </p:sp>
      <p:sp>
        <p:nvSpPr>
          <p:cNvPr id="71" name="Text Box 4"/>
          <p:cNvSpPr/>
          <p:nvPr/>
        </p:nvSpPr>
        <p:spPr>
          <a:xfrm>
            <a:off x="2895480" y="5740560"/>
            <a:ext cx="33530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ewlett-Packard and other electronics companies assign distribution and production of high-end products to a number of different countries.</a:t>
            </a:r>
            <a:endParaRPr b="0" lang="en-US" sz="900" spc="-1" strike="noStrike">
              <a:solidFill>
                <a:srgbClr val="000000"/>
              </a:solidFill>
              <a:latin typeface="Arial"/>
            </a:endParaRPr>
          </a:p>
        </p:txBody>
      </p:sp>
      <p:sp>
        <p:nvSpPr>
          <p:cNvPr id="72"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pic>
        <p:nvPicPr>
          <p:cNvPr id="74" name="Picture 8" descr="Fig-15-1.tif"/>
          <p:cNvPicPr/>
          <p:nvPr/>
        </p:nvPicPr>
        <p:blipFill>
          <a:blip r:embed="rId2"/>
          <a:stretch/>
        </p:blipFill>
        <p:spPr>
          <a:xfrm>
            <a:off x="1069920" y="1897200"/>
            <a:ext cx="7007400" cy="35892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800100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when building international systems</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global environment</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drivers pushing your industry toward global competitio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tors creating management challenges</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corporate strategy for competition</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firm should respond to global competition</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organization structure and division of labor</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ill production, marketing, sales, etc., be located</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management issues</a:t>
            </a:r>
            <a:endParaRPr b="0" lang="en-US" sz="20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business procedures, reengineering, managing change</a:t>
            </a:r>
            <a:endParaRPr b="0" lang="en-US" sz="1800" spc="-1" strike="noStrike">
              <a:solidFill>
                <a:srgbClr val="000000"/>
              </a:solidFill>
              <a:latin typeface="Arial"/>
            </a:endParaRPr>
          </a:p>
          <a:p>
            <a:pPr lvl="1" marL="914400" indent="-457200">
              <a:lnSpc>
                <a:spcPct val="100000"/>
              </a:lnSpc>
              <a:spcAft>
                <a:spcPts val="1001"/>
              </a:spcAft>
              <a:buClr>
                <a:srgbClr val="000000"/>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echnology platfor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ational Information Systems Architecture</a:t>
            </a:r>
            <a:endParaRPr b="0" lang="en-US" sz="2400" spc="-1" strike="noStrike">
              <a:solidFill>
                <a:srgbClr val="000000"/>
              </a:solidFill>
              <a:latin typeface="Arial"/>
            </a:endParaRPr>
          </a:p>
        </p:txBody>
      </p:sp>
      <p:sp>
        <p:nvSpPr>
          <p:cNvPr id="7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5-2</a:t>
            </a:r>
            <a:endParaRPr b="0" lang="en-US" sz="1800" spc="-1" strike="noStrike">
              <a:solidFill>
                <a:srgbClr val="000000"/>
              </a:solidFill>
              <a:latin typeface="Arial"/>
            </a:endParaRPr>
          </a:p>
        </p:txBody>
      </p:sp>
      <p:sp>
        <p:nvSpPr>
          <p:cNvPr id="80"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ajor dimensions for developing an international information systems architecture are the global environment, the corporate global strategies, the structure of the organization, the management and business processes, and the technology platform.</a:t>
            </a:r>
            <a:endParaRPr b="0" lang="en-US" sz="900" spc="-1" strike="noStrike">
              <a:solidFill>
                <a:srgbClr val="000000"/>
              </a:solidFill>
              <a:latin typeface="Arial"/>
            </a:endParaRPr>
          </a:p>
        </p:txBody>
      </p:sp>
      <p:sp>
        <p:nvSpPr>
          <p:cNvPr id="81"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pic>
        <p:nvPicPr>
          <p:cNvPr id="82" name="Picture 19" descr="Fig-15-2"/>
          <p:cNvPicPr/>
          <p:nvPr/>
        </p:nvPicPr>
        <p:blipFill>
          <a:blip r:embed="rId2"/>
          <a:stretch/>
        </p:blipFill>
        <p:spPr>
          <a:xfrm>
            <a:off x="3124080" y="2122560"/>
            <a:ext cx="2944800" cy="3363840"/>
          </a:xfrm>
          <a:prstGeom prst="rect">
            <a:avLst/>
          </a:prstGeom>
          <a:ln w="0">
            <a:noFill/>
          </a:ln>
        </p:spPr>
      </p:pic>
      <p:sp>
        <p:nvSpPr>
          <p:cNvPr id="8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business drivers:</a:t>
            </a:r>
            <a:endParaRPr b="0" lang="en-US" sz="2400" spc="-1" strike="noStrike">
              <a:solidFill>
                <a:srgbClr val="000000"/>
              </a:solidFill>
              <a:latin typeface="Arial"/>
            </a:endParaRPr>
          </a:p>
          <a:p>
            <a:pPr lvl="1" marL="743040" indent="-285840">
              <a:lnSpc>
                <a:spcPct val="100000"/>
              </a:lnSpc>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cultural factors l</a:t>
            </a:r>
            <a:r>
              <a:rPr b="0" lang="en-US" sz="1800" spc="-1" strike="noStrike">
                <a:solidFill>
                  <a:srgbClr val="000000"/>
                </a:solidFill>
                <a:latin typeface="Arial"/>
                <a:ea typeface="Times New Roman"/>
              </a:rPr>
              <a:t>ead toward internationalization and result in specific business globalization factor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graphicFrame>
        <p:nvGraphicFramePr>
          <p:cNvPr id="86" name=""/>
          <p:cNvGraphicFramePr/>
          <p:nvPr/>
        </p:nvGraphicFramePr>
        <p:xfrm>
          <a:off x="609480" y="3124080"/>
          <a:ext cx="8077320" cy="2819520"/>
        </p:xfrm>
        <a:graphic>
          <a:graphicData uri="http://schemas.openxmlformats.org/drawingml/2006/table">
            <a:tbl>
              <a:tblPr/>
              <a:tblGrid>
                <a:gridCol w="4038840"/>
                <a:gridCol w="4038480"/>
              </a:tblGrid>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CULTURAL FACTO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a1e7"/>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BUSINESS FACTO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a1e7"/>
                    </a:solidFill>
                  </a:tcPr>
                </a:tc>
              </a:tr>
              <a:tr h="2413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mmunication and</a:t>
                      </a:r>
                      <a:br>
                        <a:rPr sz="2000"/>
                      </a:br>
                      <a:r>
                        <a:rPr b="0" lang="en-US" sz="2000" spc="-1" strike="noStrike">
                          <a:solidFill>
                            <a:srgbClr val="000000"/>
                          </a:solidFill>
                          <a:latin typeface="Arial"/>
                        </a:rPr>
                        <a:t>        transportation technologi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global cult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e of global social norm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 stabilit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knowledge bas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marke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production and operation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rdin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workfor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economies of sca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ctangle 3"/>
          <p:cNvSpPr/>
          <p:nvPr/>
        </p:nvSpPr>
        <p:spPr>
          <a:xfrm>
            <a:off x="419040" y="1600200"/>
            <a:ext cx="8305920" cy="442116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llenges and obstacles to global business system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 cultural challeng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ultural particularism</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ionalism, nationalism, language difference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cial expectation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and-name expectations, work hou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litical laws</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flow</a:t>
            </a:r>
            <a:endParaRPr b="0" lang="en-US" sz="1800" spc="-1" strike="noStrike">
              <a:solidFill>
                <a:srgbClr val="000000"/>
              </a:solidFill>
              <a:latin typeface="Arial"/>
            </a:endParaRPr>
          </a:p>
          <a:p>
            <a:pPr lvl="3" marL="142884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nsborder data and privacy laws, commercial regulations</a:t>
            </a:r>
            <a:endParaRPr b="0" lang="en-US" sz="1800" spc="-1" strike="noStrike">
              <a:solidFill>
                <a:srgbClr val="000000"/>
              </a:solidFill>
              <a:latin typeface="Arial"/>
            </a:endParaRPr>
          </a:p>
          <a:p>
            <a:pPr marL="343080" indent="-343080">
              <a:spcAft>
                <a:spcPts val="7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5 Managing Global Systems</a:t>
            </a:r>
            <a:endParaRPr b="0" lang="en-US" sz="1600" spc="-1" strike="noStrike">
              <a:solidFill>
                <a:srgbClr val="000000"/>
              </a:solidFill>
              <a:latin typeface="Arial"/>
            </a:endParaRPr>
          </a:p>
        </p:txBody>
      </p:sp>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Growth of International Information System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8:06Z</dcterms:modified>
  <cp:revision>595</cp:revision>
  <dc:subject/>
  <dc:title>PowerPoint Presentation</dc:title>
</cp:coreProperties>
</file>